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6E1-CFDC-447D-8489-0A1DC3AB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28A-6754-4921-B36D-EF857C28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2BF-A9A6-49D8-98C0-F1CC052E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067-0FDB-4E38-A093-0EA43AD3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2EC8-7DCA-4D7E-B325-ECA2E457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AE6D-E824-4271-9368-2DC9892D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156F-E479-411E-B320-0B109813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2DC8-5965-44C8-9E59-0F45B8B1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633C-43E0-456C-946E-F26612DB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81FC-B183-4515-8B99-52F7900A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9EFE-9757-48CB-8FB6-D9B4DFE3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A09-C3A8-45AB-B4CE-1910C4FF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8082-88D4-4605-80C6-56E3D5C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3CC6-6826-41C1-AAE5-97FF6CCB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C9A9-7D63-4A08-BE1F-56DB9BF5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5FB8-8258-47B4-8872-3794073A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71CD-BB8A-463E-A6CB-19B3128C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AF13-03A2-420B-9AD9-9F0EE655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2387-6388-4F43-9295-19362019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EAB8E-3D50-40C0-B067-47B4E522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DC382-8FB0-4C2D-AF72-EE164010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1E32-6CEC-4B84-BD5B-405A705A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575-7344-40FB-A3C7-8529C7C5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D434-75AA-4233-AB17-64510D07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77E0-D89B-4B15-B307-AAAF3878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1922-1C7A-4445-8787-526FC74F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BF894-F93B-4329-BA11-0AF7449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74B0-88A0-4EAD-BAE4-D60B5E32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1396-556A-4E95-A1CA-11D5D111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5EBE-BE77-4778-8B9B-AB6C186D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2CBB0-1E6F-4468-9FBB-C01FFBE9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1AE9-86D6-4637-91E1-8DBEFD98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778E-6969-4755-8BA4-82F64512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3EB-F260-4E74-B17C-ACFF2F7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6585-694A-4EA4-9974-43B57872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CE652-6AAE-4B1C-BE76-1123AF13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D4949-9C78-42CF-8BA7-6F36D810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6CCF1-CA82-46CF-8DCC-9F07AB12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CCFB-823F-486B-8114-52AF0F5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69710-6A66-41D4-9084-F2D5E9E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6110E-D9C6-49C3-AA05-EBA96427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C09B-4EDD-4BB3-ACF9-3E7C5E54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7538-9C9B-45DC-B346-6B756EF9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576C-2F48-4B44-B490-537C06EB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777-8F30-4FE9-8111-07F6B1DE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F09A9-AA91-4E61-A34A-1C752614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9541-D2D2-40D9-B5ED-BFE26C9E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C6D99-58EA-42E3-B4A4-48CA9D9E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2F530-89DB-4E13-8C85-2523AF3E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FC6D-0B9F-4902-A3D6-0CFF7F85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AF021-3295-4754-BC55-40880BB4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CAED-4909-4E92-BD85-D517859C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2AC3B-1C0D-4788-9271-FC05731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1F7EF-E6EC-4345-B6D3-9E6EC633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5474-D21E-4F56-AD58-171DF7B0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BF2-BD44-480E-A523-93226EC6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A8B14-4475-4208-BE4D-C8DCA91B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CA8-58D8-4A46-B972-16E5830C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772-F3C5-4A5E-991C-62BF5F6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B58-0E9C-48BE-89A4-75C92E3E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D043-3747-41E6-AB46-0C444A4D66F4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2232-8422-457E-B4F2-243BA52772C6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B759-B363-4D14-B03C-B63C270DAE58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5095-BEDA-47E3-AD19-B33511330B79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rotonda singolo angolo rettangol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B5F4-94E6-4471-9598-FB1B6BA0E53C}" type="slidenum">
              <a:rPr b="0" lang="it-IT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3" descr="Manifesto tecnici.jpg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2" name="Segnaposto contenuto 3" descr="Man_indirizzo_amministrazione.jpg"/>
          <p:cNvPicPr/>
          <p:nvPr/>
        </p:nvPicPr>
        <p:blipFill>
          <a:blip r:embed="rId1"/>
          <a:stretch/>
        </p:blipFill>
        <p:spPr>
          <a:xfrm>
            <a:off x="395280" y="404640"/>
            <a:ext cx="83660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4" name="Segnaposto contenuto 3" descr="Man_indirizzo_turistico.jpg"/>
          <p:cNvPicPr/>
          <p:nvPr/>
        </p:nvPicPr>
        <p:blipFill>
          <a:blip r:embed="rId1"/>
          <a:stretch/>
        </p:blipFill>
        <p:spPr>
          <a:xfrm>
            <a:off x="380880" y="404640"/>
            <a:ext cx="83678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1:38:51Z</dcterms:created>
  <dc:creator>Valued Acer Customer</dc:creator>
  <dc:description/>
  <dc:language>en-US</dc:language>
  <cp:lastModifiedBy>Picoka</cp:lastModifiedBy>
  <dcterms:modified xsi:type="dcterms:W3CDTF">2011-01-12T13:19:29Z</dcterms:modified>
  <cp:revision>16</cp:revision>
  <dc:subject/>
  <dc:title>RIFORMA DEGLI  ISTITUTI TECNICI</dc:title>
</cp:coreProperties>
</file>