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200-7C29-4EB1-9E82-829833DF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4F5-5F5F-4693-B7A0-6921C528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BB4-560A-4D72-8564-2E07BB05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16E-CA33-4991-AF08-8F988E10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8FEC-93FF-4705-BF6A-87F3DE04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D020-26E6-4091-99A1-7A50C40D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FA31-0A0A-49AD-A322-B934CBEA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4468-1A35-4211-ABCB-E614E6DC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C30-B53B-4E88-BBD7-12FDAD43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6880-671B-4891-AD24-5EFB1B6C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0B03-9E05-4078-AD57-2EEFE4B9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779-F1B0-47AB-AF7C-F07B3855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F483-9E44-4D44-87CB-02C9052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69CD-0DAC-4482-9ECE-3A6C7A3D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348D-451D-4EAC-B9D4-B25EDA7C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9809-AF8D-4FBF-99C4-02480F84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B37D-5323-4CEF-B897-CFB4A3C2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23FD-ED7C-4B7A-B507-4DD60BAA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4AAE-1278-40BF-8D1E-7B67299C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8198-9D42-4A7B-8F02-72D3906B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3D61-7C41-42EB-9144-B1EA681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C36A0-AA52-445E-AC9E-CDA71EDE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D8A-CAB5-4771-8AC5-1FDE92DC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A629-B5D5-44D4-8ECB-6B3927D8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A557-555C-46F8-AFC8-9C1CE9D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BC6D2-2291-4456-A186-B339F8B4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B247-A497-4632-A7DE-511CDA9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BA282-29A5-4757-ACF3-7CEB2F81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D584-E4D1-422B-B007-B6979862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A3B8-8264-421B-938B-47076922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EB45C-0DB3-4871-AF30-B5F568F4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115C-3F95-4637-9027-61305617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9548-5351-4306-B683-D80AB4FB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224-769D-4C7A-A3D7-5CC52367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46E32-5B10-4F52-88FF-F4624B8C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9FA3-0E06-44DB-856B-472EFE92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5B1B5-753E-4B67-9DBF-E38F8AEE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7BCB-FD43-4A4A-AC93-9576DE96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80552-7667-4A8B-B84C-22E4631B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0E716-4E1A-40CB-9040-19E0764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2A921-0BBA-4503-907A-4D6CE652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43FA-5008-4488-9335-8850DCA6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C8FC2-4875-4259-9BF8-20844B29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89AD-E065-4971-8808-DD348406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C47-537A-4BCE-9746-FAD01CAB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C0A6-07C4-4951-ACC4-4476435B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37025-96E2-460B-8959-55FA8E2D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60AE2-F710-4FAC-866A-E3D888C9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2C366-DC1C-4479-8E8A-A609786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949D-6A45-46DD-8491-948AC740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D5581-2AD8-4DFE-B592-CDEAC4A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F28FD-B7F9-41A7-84B4-D39AADFC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3CE21-0477-436B-A269-EA5B5814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7495-5066-4867-B0BE-A9A76AE5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73CB-FD8B-4094-BDDC-53257DA3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511-6AB7-463B-AC1F-2061FA6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3128-9A42-4438-83F4-164A6CB8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77A-A4D0-4300-84AB-396A510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DBB-6015-4A6B-90B1-B4F46C93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166-2C83-4FD0-8716-04947860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2AAD-9CCB-458A-91FB-C309890D619F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17A9-BBA7-48F2-A98B-92771B71E0F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A873-5A94-4888-B456-AEA550A1AB4E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668E-800B-4104-9E50-94D2D92BAAD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6C1E-16C3-432F-A07B-2340FCB559C7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538200"/>
            <a:ext cx="828216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Segnaposto contenuto 3" descr="Man_indirizzo_trasporti.jpg"/>
          <p:cNvPicPr/>
          <p:nvPr/>
        </p:nvPicPr>
        <p:blipFill>
          <a:blip r:embed="rId1"/>
          <a:stretch/>
        </p:blipFill>
        <p:spPr>
          <a:xfrm>
            <a:off x="357120" y="404640"/>
            <a:ext cx="839952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Segnaposto contenuto 3" descr="Man_indirizzo_agraria.jpg"/>
          <p:cNvPicPr/>
          <p:nvPr/>
        </p:nvPicPr>
        <p:blipFill>
          <a:blip r:embed="rId1"/>
          <a:stretch/>
        </p:blipFill>
        <p:spPr>
          <a:xfrm>
            <a:off x="361800" y="404640"/>
            <a:ext cx="8386920" cy="59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egnaposto contenuto 3" descr="Man_indirizzo_chimica.jpg"/>
          <p:cNvPicPr/>
          <p:nvPr/>
        </p:nvPicPr>
        <p:blipFill>
          <a:blip r:embed="rId1"/>
          <a:stretch/>
        </p:blipFill>
        <p:spPr>
          <a:xfrm>
            <a:off x="395280" y="428760"/>
            <a:ext cx="8388360" cy="59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Segnaposto contenuto 3" descr="Man_indirizzo_costruzioni.jpg"/>
          <p:cNvPicPr/>
          <p:nvPr/>
        </p:nvPicPr>
        <p:blipFill>
          <a:blip r:embed="rId1"/>
          <a:stretch/>
        </p:blipFill>
        <p:spPr>
          <a:xfrm>
            <a:off x="423720" y="404640"/>
            <a:ext cx="8332920" cy="595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Segnaposto contenuto 3" descr="Man_indirizzo_elettron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egnaposto contenuto 3" descr="Man_indirizzo_grafica.jpg"/>
          <p:cNvPicPr/>
          <p:nvPr/>
        </p:nvPicPr>
        <p:blipFill>
          <a:blip r:embed="rId1"/>
          <a:stretch/>
        </p:blipFill>
        <p:spPr>
          <a:xfrm>
            <a:off x="320760" y="452520"/>
            <a:ext cx="846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Segnaposto contenuto 3" descr="Man_indirizzo_meccanica.jpg"/>
          <p:cNvPicPr/>
          <p:nvPr/>
        </p:nvPicPr>
        <p:blipFill>
          <a:blip r:embed="rId1"/>
          <a:stretch/>
        </p:blipFill>
        <p:spPr>
          <a:xfrm>
            <a:off x="395280" y="431640"/>
            <a:ext cx="832788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Segnaposto contenuto 3" descr="Man_indirizzo_moda.jpg"/>
          <p:cNvPicPr/>
          <p:nvPr/>
        </p:nvPicPr>
        <p:blipFill>
          <a:blip r:embed="rId1"/>
          <a:stretch/>
        </p:blipFill>
        <p:spPr>
          <a:xfrm>
            <a:off x="357120" y="428760"/>
            <a:ext cx="83916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Segnaposto contenuto 3" descr="Man_indirizzo_informatica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26:42Z</dcterms:modified>
  <cp:revision>8</cp:revision>
  <dc:subject/>
  <dc:title>RIFORMA DEGLI  ISTITUTI TECNICI</dc:title>
</cp:coreProperties>
</file>