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93FD-4A18-47D0-97F5-6E2FEE6FD26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9C86-A92D-43E5-B77A-58D4116B1E8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621-663F-4A4A-9FBA-746F37D5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64A-0E27-4C25-BABD-84FF433E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79C-ACA0-4824-A9AC-12554E4D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83D-AF90-454A-8CBE-C8074D13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3DA-A610-49D1-9142-C59ABC28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2A4-6902-4E49-8C93-92CA65FC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04D-D38E-44FA-8BB7-72504B72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302-CC38-46AC-AA34-CB4044CD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ED68-3E3F-46FD-AC69-1F633705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C94-46E0-41D9-B51B-16C63D64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BF0-C1E5-4074-A27F-21C9ED50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CA3-ECAA-4200-899B-751BFCD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2C5A-9D50-4F21-80E9-AFC7BA716D2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magine 1" descr="Pro_industri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magine 1" descr="Pro_manutenzione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39:55Z</dcterms:created>
  <dc:creator>Picoka</dc:creator>
  <dc:description/>
  <dc:language>en-US</dc:language>
  <cp:lastModifiedBy>Picoka</cp:lastModifiedBy>
  <dcterms:modified xsi:type="dcterms:W3CDTF">2011-01-12T13:59:13Z</dcterms:modified>
  <cp:revision>3</cp:revision>
  <dc:subject/>
  <dc:title>Diapositiva 1</dc:title>
</cp:coreProperties>
</file>