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0B3-52C5-4582-A882-783893D3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35E-9362-4B0B-AE1F-CA49686C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02E-08F2-44DB-92E4-172357CE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68E-9F84-490C-AC87-23EA0D3C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9EB-7239-44C6-9E6B-F067A2E9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1BE-382F-40AA-A67A-37367133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D1E-95B7-454D-9817-8F9E7059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8A5-CBE3-4A56-93B3-1C11E9B0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2FB-FEC8-4396-9B69-6478580F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6E7-3AB9-49CA-B7F1-4E3C494E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849-25B4-4EF8-B3ED-32A363C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090-9B48-4C05-80AD-E9FAECE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C9A4-EBF4-4429-A0AB-C4977360E7C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3" descr="Manifesto Profession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magine 1" descr="Pro_agricoltur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magine 1" descr="Pro_sanitar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magine 1" descr="Pro_enogastronomia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magine 1" descr="Pro_commerciali.jpg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magine 1" descr="professionali_2.jpg"/>
          <p:cNvPicPr/>
          <p:nvPr/>
        </p:nvPicPr>
        <p:blipFill>
          <a:blip r:embed="rId1"/>
          <a:stretch/>
        </p:blipFill>
        <p:spPr>
          <a:xfrm>
            <a:off x="217188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0:53:23Z</dcterms:created>
  <dc:creator>Picoka</dc:creator>
  <dc:description/>
  <dc:language>en-US</dc:language>
  <cp:lastModifiedBy>Picoka</cp:lastModifiedBy>
  <dcterms:modified xsi:type="dcterms:W3CDTF">2011-01-12T14:02:17Z</dcterms:modified>
  <cp:revision>2</cp:revision>
  <dc:subject/>
  <dc:title>Diapositiva 1</dc:title>
</cp:coreProperties>
</file>