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8723-D252-4930-8531-A8218E3B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FBB3-2851-4967-9AB9-C0F883A5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D890-A794-497D-B186-A7740A0B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61C3-677F-4194-8EF4-EE1F2FE0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855-3E82-470B-82F4-060F7FDA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E9A-07AD-47D7-AC30-C79369D2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8F6B-96C8-4B1A-BC40-F5998EF7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0F31-2B6F-421D-893D-B9358D19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D2F3-70AA-4F32-8A12-8F8F7FD2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0076-A79C-48FD-8615-2BDF17C7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70C8-6372-4279-A2A5-0A72A2D4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41A-D1B9-443E-B6D9-015123FB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8925-56A5-4AE5-B92C-9037D37583C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3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1" descr="Pro_agricoltur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magine 1" descr="Pro_sanitar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1" descr="Pro_enogastronomi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1" descr="Pro_commerci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53:23Z</dcterms:created>
  <dc:creator>Picoka</dc:creator>
  <dc:description/>
  <dc:language>en-US</dc:language>
  <cp:lastModifiedBy>Picoka</cp:lastModifiedBy>
  <dcterms:modified xsi:type="dcterms:W3CDTF">2011-01-12T14:02:17Z</dcterms:modified>
  <cp:revision>2</cp:revision>
  <dc:subject/>
  <dc:title>Diapositiva 1</dc:title>
</cp:coreProperties>
</file>