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89C1-6E13-477C-83AB-76E5442ED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5C99-A257-46AC-9EC7-889E93F1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B3FB-3EBD-4D27-8EC4-30A87B810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1952-5734-44D7-AE6A-228F98BAB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FE65D-D5C5-4124-BDA8-A38FB85CC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EA993-395E-4FC7-AB96-C4786813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06D6-5890-4E53-857A-2A4F73FC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A995A-8C76-4F56-B64B-F6043216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5590-78D9-41D5-9595-63F11E44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6CADC-9512-48EF-A7C6-29CE3648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6F03-E0D5-4CD1-AFA6-020F6F67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0162-ED8A-411B-8D68-438C0CB8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2DB80-D443-4DCC-B339-A3AADC13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02E2-1FFA-411A-90D9-FFB788E2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4530-673A-41BB-B01E-2E7DDC87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5B3A1-1E9F-4C34-8293-342180295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A1C0-4296-4FDF-A0D0-D19C086A3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97F8C-4416-4BD3-8267-F5D7B77A2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DC9C1-9597-47E9-8355-17555459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CD9A1-3C55-4D54-A253-815B758B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AE321-97DD-4D5E-A69E-360DE14E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95006-D376-41CF-9FC9-9A85BB04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2181-48D9-4AA7-AAFD-16BC2A59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E6845-8B62-4C45-8F86-189385A0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887C8-AA9A-400E-A29D-4DF6B5C8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AC1BB-C661-4027-9CDD-39A90196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E14E2-15EE-4BB4-A445-F7A2E866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1C3D4-4589-491E-86F9-5DE64E4E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F597A-60DB-42EE-A47B-68B4CCE26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7A972-7C85-402F-8BE1-4951993E2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F346E-68B4-465C-A6A4-0810B08BC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F1B01-311F-40B5-AE47-3C3008F4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1062D-3D8F-45E8-9B26-55D462EC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DBC2-B6A0-40C7-815F-CF33A837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8E868-7FAF-4580-9C14-F3A1AEF4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0AA17-8F3C-4272-A6DA-C0EE7F36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9E537-B800-46D6-9CC9-64AC710F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087F5-9DCE-446F-8AE2-397BE079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5A266-B118-4E24-8CBA-476AF4C3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0CF60-186F-47FD-AFAB-4AA8491C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79992-02FE-496F-83EF-E75B8E3B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8B48F-11E3-4D62-8459-D8318C359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01BD6-8164-4E18-A828-91495375C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814D7-E994-4632-9CE6-78CDE4803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4A9E-CF5E-45BA-A799-762EA2E6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6C1E9-F341-4D65-9BFC-A848C86D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FE102-363D-47E8-ACAA-EC42372F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AA73F-DCCF-41A0-B9E8-D1EDA13F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67169-2538-480A-B922-FF2A222D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D9913-EFE8-4A8B-84EF-5A6A5523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78DF7-ED01-4BBF-88E8-5288DA92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F4F7B-37F7-4328-AD48-7972F8B2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0DC31-38DA-4B00-A46C-E592F2BE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DE358-997A-45D3-A5A4-C2D1ECC1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FCE64-EB4A-4DFF-A809-11E421BA4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49D5-D00E-471D-B55A-62018EF2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6D6B8-3CEA-4836-A2D9-BDF04305A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3055-1640-4BC6-9E92-EA5E23D1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ACDE-74C1-4ACC-8FFC-3A5467B0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5B2C-ED12-42B8-B7CA-5CB4D2C0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arrotondato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ettangolo arrotondato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1E08-8E1E-42AC-8698-13C451D83CAA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ettangolo arrotondato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B146-C74F-4EA7-B2CF-9AECF2632FDF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ttangolo arrotondato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41E9-99AA-4730-AED1-600F752DC032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7165-0829-4747-8A3D-2DDFF69C95D1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rotonda singolo angolo rettangolo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A3EF-FCFA-4B04-8A7F-596C1D2B0A5A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Immagine 3" descr="Manifesto tecnici.jpg"/>
          <p:cNvPicPr/>
          <p:nvPr/>
        </p:nvPicPr>
        <p:blipFill>
          <a:blip r:embed="rId1"/>
          <a:stretch/>
        </p:blipFill>
        <p:spPr>
          <a:xfrm>
            <a:off x="395280" y="538200"/>
            <a:ext cx="828216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Segnaposto contenuto 3" descr="Man_indirizzo_trasporti.jpg"/>
          <p:cNvPicPr/>
          <p:nvPr/>
        </p:nvPicPr>
        <p:blipFill>
          <a:blip r:embed="rId1"/>
          <a:stretch/>
        </p:blipFill>
        <p:spPr>
          <a:xfrm>
            <a:off x="357120" y="404640"/>
            <a:ext cx="8399520" cy="600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Segnaposto contenuto 3" descr="Man_indirizzo_agraria.jpg"/>
          <p:cNvPicPr/>
          <p:nvPr/>
        </p:nvPicPr>
        <p:blipFill>
          <a:blip r:embed="rId1"/>
          <a:stretch/>
        </p:blipFill>
        <p:spPr>
          <a:xfrm>
            <a:off x="361800" y="404640"/>
            <a:ext cx="8386920" cy="599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Segnaposto contenuto 3" descr="Man_indirizzo_chimica.jpg"/>
          <p:cNvPicPr/>
          <p:nvPr/>
        </p:nvPicPr>
        <p:blipFill>
          <a:blip r:embed="rId1"/>
          <a:stretch/>
        </p:blipFill>
        <p:spPr>
          <a:xfrm>
            <a:off x="395280" y="428760"/>
            <a:ext cx="8388360" cy="59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Segnaposto contenuto 3" descr="Man_indirizzo_costruzioni.jpg"/>
          <p:cNvPicPr/>
          <p:nvPr/>
        </p:nvPicPr>
        <p:blipFill>
          <a:blip r:embed="rId1"/>
          <a:stretch/>
        </p:blipFill>
        <p:spPr>
          <a:xfrm>
            <a:off x="423720" y="404640"/>
            <a:ext cx="8332920" cy="595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Segnaposto contenuto 3" descr="Man_indirizzo_elettronica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Segnaposto contenuto 3" descr="Man_indirizzo_grafica.jpg"/>
          <p:cNvPicPr/>
          <p:nvPr/>
        </p:nvPicPr>
        <p:blipFill>
          <a:blip r:embed="rId1"/>
          <a:stretch/>
        </p:blipFill>
        <p:spPr>
          <a:xfrm>
            <a:off x="320760" y="452520"/>
            <a:ext cx="846612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Segnaposto contenuto 3" descr="Man_indirizzo_meccanica.jpg"/>
          <p:cNvPicPr/>
          <p:nvPr/>
        </p:nvPicPr>
        <p:blipFill>
          <a:blip r:embed="rId1"/>
          <a:stretch/>
        </p:blipFill>
        <p:spPr>
          <a:xfrm>
            <a:off x="395280" y="431640"/>
            <a:ext cx="8327880" cy="59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Segnaposto contenuto 3" descr="Man_indirizzo_moda.jpg"/>
          <p:cNvPicPr/>
          <p:nvPr/>
        </p:nvPicPr>
        <p:blipFill>
          <a:blip r:embed="rId1"/>
          <a:stretch/>
        </p:blipFill>
        <p:spPr>
          <a:xfrm>
            <a:off x="357120" y="428760"/>
            <a:ext cx="8391600" cy="59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Segnaposto contenuto 3" descr="Man_indirizzo_informatica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7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1:38:51Z</dcterms:created>
  <dc:creator>Valued Acer Customer</dc:creator>
  <dc:description/>
  <dc:language>en-US</dc:language>
  <cp:lastModifiedBy>Picoka</cp:lastModifiedBy>
  <dcterms:modified xsi:type="dcterms:W3CDTF">2011-01-12T13:26:42Z</dcterms:modified>
  <cp:revision>8</cp:revision>
  <dc:subject/>
  <dc:title>RIFORMA DEGLI  ISTITUTI TECNICI</dc:title>
</cp:coreProperties>
</file>