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D40E-DEA7-48D5-B3AD-17473A016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E4AD-8C34-424D-8DDC-0667384D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4222-B63F-41B2-B618-DD4BF7CC9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0185-EBFD-48CE-9A0D-AB171C9B8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3668-0AB9-4CAE-80FA-D55DCB15E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06CD-86F1-4D8E-A4CF-0C4AF501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7993-918A-4094-9FB0-E343DC24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B458B-D81C-4754-8318-BD475624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97EF7-D465-40B5-A6D4-DFD7B0A4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978F-DE4E-41FC-8F64-344D839E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339C-E2A5-4A81-895B-28903C42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4683-25F9-41A1-A044-E0D996E7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A9F7-0102-4731-82DB-056EFB07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81EC-8A38-42D9-9F53-B3A71AF7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09EF-E35E-4146-B9B3-A9BCB60A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6456-298A-4F66-830A-F28C6A365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92060-A864-4012-A039-1E7177145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7988F-2AD2-4A1E-9FBC-EDC2CFA06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0DDD4-E6DF-45C5-8579-7FD39003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63108-0479-4C19-AB0A-D3DC9665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98918-2D8D-486D-A293-C2262D7C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667BF-D997-4C1E-BF87-F6AF6E88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63D3-0596-4BD4-90C6-1450CF0C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79E6D-06D9-4FBE-8AA6-2E46348F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4BB82-A171-4F08-BBFC-15E20A92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6819E-055A-4089-84C1-7830484D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F9B1A-1954-4B16-BF3B-9125E96B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C50E5-EA72-4602-A1E2-E62D2EC2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52CD0-C8FB-4DA9-A0D1-F2EF83E9F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3E4D3-D103-41C4-9FE5-89E5BE3AC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7F88A-9395-42BD-9D2D-E3FDBCEBF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74160-AB10-451F-9B35-415381C4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95579-6FB0-4D9F-A495-F61E2F66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0D20-8223-449A-9CAC-3CEF0E81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CC40C-77A5-48DA-BBA9-7FE90EA6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2411D-2BEF-4A81-8B54-F91C166E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FBB5E-D5BF-4A91-B22A-3D2214B1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4C7BF-A33F-43DF-99AB-233AEE47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5B116-283C-41DE-B3E3-B12D2B59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2BB4B-250F-410A-A486-8BD94657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F9DAC-A6CF-41CA-80CE-40C5519F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5CFE4-8762-4C48-9940-614362DDB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65D75-03F5-4996-9652-416877644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BEB12-DD87-4F1C-923D-51D493627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62E8-D4ED-4D08-B476-94D58D69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2BCA6-205F-4BE3-A830-6AED4110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B1DF4-BB0C-4944-8ABB-C0D4F2C9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9F8A1-13EA-4556-B0BB-46887A32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A9167-BE47-445C-91F5-0983B7673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96D20-3803-454D-BA43-CBF22844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FDFB8-9FD2-449D-B919-961DD836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FB701-B995-4DDA-B8FB-6DA64089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F38DF-37E8-45FD-8BD9-1878E8F5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FC961-7FD1-44E8-9D11-CF5C6F99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B2E56-EBF0-4AEE-8374-E9D4CF5A2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39F9-AD19-4F8D-890D-D07BCC81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D1BBE-1DC5-4C63-99CF-A9CD39F79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5BF6-8261-4BB8-99C1-1985B18F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6DCD-377C-4C92-B7CD-DD5D6CE3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D71F-8777-41EB-A9EF-4DD34CEE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arrotondato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ettangolo arrotondato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060F-F7AD-4513-B646-4FEC2D75D14C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ettangolo arrotondato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64B6-241B-47A8-ABA7-D96A766D2AEE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ttangolo arrotondato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9F9A-A5C3-465B-BB69-71E7E0B5994C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E5C1-69B0-45A3-862B-FA9157505B65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rotonda singolo angolo rettangolo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BCC4-235C-4227-BBDC-4E5F17955536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Immagine 3" descr="Manifesto tecnici.jpg"/>
          <p:cNvPicPr/>
          <p:nvPr/>
        </p:nvPicPr>
        <p:blipFill>
          <a:blip r:embed="rId1"/>
          <a:stretch/>
        </p:blipFill>
        <p:spPr>
          <a:xfrm>
            <a:off x="395280" y="538200"/>
            <a:ext cx="828216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Segnaposto contenuto 3" descr="Man_indirizzo_trasporti.jpg"/>
          <p:cNvPicPr/>
          <p:nvPr/>
        </p:nvPicPr>
        <p:blipFill>
          <a:blip r:embed="rId1"/>
          <a:stretch/>
        </p:blipFill>
        <p:spPr>
          <a:xfrm>
            <a:off x="357120" y="404640"/>
            <a:ext cx="8399520" cy="600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Segnaposto contenuto 3" descr="Man_indirizzo_agraria.jpg"/>
          <p:cNvPicPr/>
          <p:nvPr/>
        </p:nvPicPr>
        <p:blipFill>
          <a:blip r:embed="rId1"/>
          <a:stretch/>
        </p:blipFill>
        <p:spPr>
          <a:xfrm>
            <a:off x="361800" y="404640"/>
            <a:ext cx="8386920" cy="599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Segnaposto contenuto 3" descr="Man_indirizzo_chimica.jpg"/>
          <p:cNvPicPr/>
          <p:nvPr/>
        </p:nvPicPr>
        <p:blipFill>
          <a:blip r:embed="rId1"/>
          <a:stretch/>
        </p:blipFill>
        <p:spPr>
          <a:xfrm>
            <a:off x="395280" y="428760"/>
            <a:ext cx="8388360" cy="59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Segnaposto contenuto 3" descr="Man_indirizzo_costruzioni.jpg"/>
          <p:cNvPicPr/>
          <p:nvPr/>
        </p:nvPicPr>
        <p:blipFill>
          <a:blip r:embed="rId1"/>
          <a:stretch/>
        </p:blipFill>
        <p:spPr>
          <a:xfrm>
            <a:off x="423720" y="404640"/>
            <a:ext cx="8332920" cy="595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Segnaposto contenuto 3" descr="Man_indirizzo_elettronica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Segnaposto contenuto 3" descr="Man_indirizzo_grafica.jpg"/>
          <p:cNvPicPr/>
          <p:nvPr/>
        </p:nvPicPr>
        <p:blipFill>
          <a:blip r:embed="rId1"/>
          <a:stretch/>
        </p:blipFill>
        <p:spPr>
          <a:xfrm>
            <a:off x="320760" y="452520"/>
            <a:ext cx="846612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Segnaposto contenuto 3" descr="Man_indirizzo_meccanica.jpg"/>
          <p:cNvPicPr/>
          <p:nvPr/>
        </p:nvPicPr>
        <p:blipFill>
          <a:blip r:embed="rId1"/>
          <a:stretch/>
        </p:blipFill>
        <p:spPr>
          <a:xfrm>
            <a:off x="395280" y="431640"/>
            <a:ext cx="8327880" cy="59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Segnaposto contenuto 3" descr="Man_indirizzo_moda.jpg"/>
          <p:cNvPicPr/>
          <p:nvPr/>
        </p:nvPicPr>
        <p:blipFill>
          <a:blip r:embed="rId1"/>
          <a:stretch/>
        </p:blipFill>
        <p:spPr>
          <a:xfrm>
            <a:off x="357120" y="428760"/>
            <a:ext cx="8391600" cy="59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Segnaposto contenuto 3" descr="Man_indirizzo_informatica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7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1:38:51Z</dcterms:created>
  <dc:creator>Valued Acer Customer</dc:creator>
  <dc:description/>
  <dc:language>en-US</dc:language>
  <cp:lastModifiedBy>Picoka</cp:lastModifiedBy>
  <dcterms:modified xsi:type="dcterms:W3CDTF">2011-01-12T13:26:42Z</dcterms:modified>
  <cp:revision>8</cp:revision>
  <dc:subject/>
  <dc:title>RIFORMA DEGLI  ISTITUTI TECNICI</dc:title>
</cp:coreProperties>
</file>