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6265-5CD8-4755-A6D2-9D4A240C1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135D-01E7-4876-BB83-A4A2C239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E424-7453-4447-9FAC-966F87A2C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C1A9-8826-41CF-98E8-AF98E21C8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3DC7-32C6-4083-B6C1-0EF5FFB5B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36F1-7B88-4A56-95B2-1DD76760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D2C9-492B-433F-8601-84F7FD78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9442-FFF0-436D-B8CA-15C6BD2C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7FF9-8B2D-4DD4-9C30-44355039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1632-24C7-4490-89A4-E20AEC20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A938-DCFB-498C-9EEE-FDBA8ED1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B402-91BB-4BD6-9440-BF560972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89F4-6E5F-498E-A74D-67DC47CE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A24E-858A-44C1-864A-6250A34F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19A0-C444-4413-85B8-10DA34BA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5AAB-257F-4407-A3EB-5563E2BE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1916-1604-4AB6-AC99-42037B15E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E53AD-5757-4292-9166-3C0457048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E8993-EBFF-470C-92E6-B3E681DA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E54FF-F43D-4EFC-88E4-DF4CFEEF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7A9A6-8EE4-4465-879E-4FE50DD0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D8CA1-00DC-47C8-9928-18F94948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54D5-48A6-4EE9-9C15-AD95A0E5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02B8E-1F89-4878-AED6-C18E6F18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43E9D-0E57-4521-B17C-2878743F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C53DB-1033-4F03-A8EC-527FCB30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69542-A459-4507-828C-940675F1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C90D4-E08E-4630-9129-C95EB8B6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2C404-7C3A-44EE-B719-D493AEA6E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3069E-DFD4-478E-A590-2E4D10475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ED6D4-D20D-4649-A015-667C5A4D8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45A2B-BD66-4BBF-A4A8-DFD23E72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288B7-96B2-4C65-B142-08D41772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88D7-37D0-45D0-812F-F721CBC5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5164A-7016-4887-A556-4E3DE091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8A2C4-6933-4131-94CB-1370F840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AE180-3D1F-4285-A9A2-1054DD5D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7C1D5-591C-4946-B756-B78E0ECC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10E87-2288-4F17-AA4F-45A59959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44236-811A-4121-BC4E-A7F22059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6311A-404D-4F0E-B7CF-F2A8839C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44F1C-FF86-48F7-8907-97126B246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010FD-1819-42D5-817E-255027737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88108-45E1-43AB-8092-963D5B149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7DEA-FA8F-4CEE-ACD3-52E7B763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4D7AB-1639-45ED-8591-C6D4BA5A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A396F-549A-4C63-A49C-EB54DA2D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E8050-6827-4EF7-B6E8-0E1454C4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4E32F-BA4E-4282-8710-52D58CA1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54229-EBD3-4359-B41A-F8FC8E3F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41FAB-AD44-411B-B33D-FB629504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5DA95-3338-4235-B38D-7F9DA52E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85A0E-9404-4FAF-91CA-2AD8EB52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B76A5-2DC8-45F9-BDB4-669D7952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48F38-F380-47ED-B08C-5190C0A3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1D44-4D00-4C51-8652-76FBC72F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2528F-FBE5-4DFD-85ED-9F5B010E0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FABB-6475-4E7B-8937-4FE9027F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F229-C274-4F56-A126-12EB1B8D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2702-79DE-48B1-94CE-28EA78E8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A2EC-4B0F-49F8-B750-CDAC53F6F194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E0E6-2EF1-4C29-8CAE-32AC640BC386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tangolo arrotondato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B34F-BA38-42FB-9633-09F64C8DB43F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3DB9-1185-47B4-A584-25EC526169F7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rotonda singolo angolo rettangolo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F74F-D034-4C66-BAD9-A6643FC2FCA0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3" descr="Manifesto tecnici.jpg"/>
          <p:cNvPicPr/>
          <p:nvPr/>
        </p:nvPicPr>
        <p:blipFill>
          <a:blip r:embed="rId1"/>
          <a:stretch/>
        </p:blipFill>
        <p:spPr>
          <a:xfrm>
            <a:off x="395280" y="538200"/>
            <a:ext cx="828216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Segnaposto contenuto 3" descr="Man_indirizzo_trasporti.jpg"/>
          <p:cNvPicPr/>
          <p:nvPr/>
        </p:nvPicPr>
        <p:blipFill>
          <a:blip r:embed="rId1"/>
          <a:stretch/>
        </p:blipFill>
        <p:spPr>
          <a:xfrm>
            <a:off x="357120" y="404640"/>
            <a:ext cx="8399520" cy="60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Segnaposto contenuto 3" descr="Man_indirizzo_agraria.jpg"/>
          <p:cNvPicPr/>
          <p:nvPr/>
        </p:nvPicPr>
        <p:blipFill>
          <a:blip r:embed="rId1"/>
          <a:stretch/>
        </p:blipFill>
        <p:spPr>
          <a:xfrm>
            <a:off x="361800" y="404640"/>
            <a:ext cx="8386920" cy="599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Segnaposto contenuto 3" descr="Man_indirizzo_chimica.jpg"/>
          <p:cNvPicPr/>
          <p:nvPr/>
        </p:nvPicPr>
        <p:blipFill>
          <a:blip r:embed="rId1"/>
          <a:stretch/>
        </p:blipFill>
        <p:spPr>
          <a:xfrm>
            <a:off x="395280" y="428760"/>
            <a:ext cx="8388360" cy="59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Segnaposto contenuto 3" descr="Man_indirizzo_costruzioni.jpg"/>
          <p:cNvPicPr/>
          <p:nvPr/>
        </p:nvPicPr>
        <p:blipFill>
          <a:blip r:embed="rId1"/>
          <a:stretch/>
        </p:blipFill>
        <p:spPr>
          <a:xfrm>
            <a:off x="423720" y="404640"/>
            <a:ext cx="8332920" cy="595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Segnaposto contenuto 3" descr="Man_indirizzo_elettronica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Segnaposto contenuto 3" descr="Man_indirizzo_grafica.jpg"/>
          <p:cNvPicPr/>
          <p:nvPr/>
        </p:nvPicPr>
        <p:blipFill>
          <a:blip r:embed="rId1"/>
          <a:stretch/>
        </p:blipFill>
        <p:spPr>
          <a:xfrm>
            <a:off x="320760" y="452520"/>
            <a:ext cx="846612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Segnaposto contenuto 3" descr="Man_indirizzo_meccanica.jpg"/>
          <p:cNvPicPr/>
          <p:nvPr/>
        </p:nvPicPr>
        <p:blipFill>
          <a:blip r:embed="rId1"/>
          <a:stretch/>
        </p:blipFill>
        <p:spPr>
          <a:xfrm>
            <a:off x="395280" y="431640"/>
            <a:ext cx="8327880" cy="59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Segnaposto contenuto 3" descr="Man_indirizzo_moda.jpg"/>
          <p:cNvPicPr/>
          <p:nvPr/>
        </p:nvPicPr>
        <p:blipFill>
          <a:blip r:embed="rId1"/>
          <a:stretch/>
        </p:blipFill>
        <p:spPr>
          <a:xfrm>
            <a:off x="357120" y="428760"/>
            <a:ext cx="8391600" cy="59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Segnaposto contenuto 3" descr="Man_indirizzo_informatica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7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38:51Z</dcterms:created>
  <dc:creator>Valued Acer Customer</dc:creator>
  <dc:description/>
  <dc:language>en-US</dc:language>
  <cp:lastModifiedBy>Picoka</cp:lastModifiedBy>
  <dcterms:modified xsi:type="dcterms:W3CDTF">2011-01-12T13:26:42Z</dcterms:modified>
  <cp:revision>8</cp:revision>
  <dc:subject/>
  <dc:title>RIFORMA DEGLI  ISTITUTI TECNICI</dc:title>
</cp:coreProperties>
</file>