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057D-2EDA-4629-BD8D-C9B1B3410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1E1E-BAE1-4A93-8BD3-106A1B9E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4166-81A1-4F60-B5A7-BE88B4A39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15B6-7690-467D-A2A2-3A519B2C9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AA04-CCE7-4C56-9B28-91A60900D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CC1A-4942-4D45-98AB-78CB1397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A69D-43F5-47E7-A103-4066C4F5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D136-57B2-4D38-9DAD-BDA8B6DE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0EB0-C663-4D6B-9832-A17093DF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05C8-283D-4315-A575-30AFB886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0353-672D-4504-9EAF-6916EDCA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E79E-4FD1-4310-ADE4-4BD41FDA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B064-CF9B-4D46-A7C4-0DB6241F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C90C-661D-4DDD-AD0C-B48EBF48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BF0C-DB69-46A3-84EC-93C7FAB6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5940-96F6-48C0-B8BD-A9E0AE1D0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B61E-23CF-45D3-9DA4-8FA61EF1F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47D08-D806-4370-8883-F9F7B98BB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0EEB3-4450-434A-A3EC-7BB7D8F0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0E5A3-B716-479A-8820-5D2B153C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86E16-D1BF-4B18-85B3-409E83EB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F7EA3-1610-45BF-BD72-CB35124C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709B-24EF-4B3A-9703-ED5DD6E3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219B5-791D-4E96-B66D-6DC563CD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41EB7-221A-4B38-B65D-8C85F539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24AD0-8898-4492-BC64-AC4DBD44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B450E-5C75-4E94-814E-C4BA768E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78CB4-A3DC-4D04-8678-559F22AA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25606-3A16-4945-9317-C8F131E25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7A847-DD13-4904-9C67-FCA00C598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1725A-7E06-490F-B2A2-600D2BD2C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D869B-2EB6-45F1-BABA-ECA0CBF8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4AA9F-E672-4F5A-B5A6-30D27487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37B4-D1C2-4DE0-9FF0-3FAC3F10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A580D-7859-4EDF-B6B1-E61AF2CA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26E8F-AD01-48B5-A00A-28C1C8FA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38FCE-75B1-40FA-9591-213A3ABE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3F65C-2A6C-45CB-87AC-9684FC4E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A5134-6BA6-48E2-A49D-BAF6101C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EB182-E01C-4728-BDC5-4C059D47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915B0-FB66-4268-97AD-F74A28F9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C6084-8660-46B3-B344-8831A438B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7E861-F288-489C-BA7F-9ACBA0F0E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40302-D68A-4690-8D51-67D586729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4F43-2B80-455D-A2E3-E5CC8D35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42D44-CD23-4BF4-A9B4-09599205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B2703-C521-427E-A01D-E66FC9B8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818EA-1A6E-40B5-B39C-E5CAB3B0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00912-2094-418B-A02A-6212D959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873F3-E716-4D30-8673-8FD52E80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CB44D-630D-416B-A3E4-473868A7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012D5-9E5C-456D-B583-1DADE98C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3D8BB-389E-43BC-AAD1-4F62DF64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35F0A-4F8A-44A5-B85A-E1C21CDF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AE53C-73A8-4D7D-9C62-AEC0E768C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B2B9-C110-4E82-AFD0-CFEE8F2B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2D4F5-7001-4624-B574-DB4374F2F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528D-F881-449D-A8D7-351BCC1B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C0A1-5FB4-4F3F-BC5C-471D47E1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BD3F-2946-4317-9DFF-7B6A3357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5D1C-6C4F-4147-B237-97B3338CE1BF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31C0-D5EC-45B9-B640-101591756047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tangolo arrotondato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335B-4A19-448B-AD47-B4859BB29244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791D-1EBB-46FA-BF8B-E430C564B216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rotonda singolo angolo rettangolo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EA66-9DE9-4933-8B6C-FA36218BF833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3" descr="Manifesto tecnici.jpg"/>
          <p:cNvPicPr/>
          <p:nvPr/>
        </p:nvPicPr>
        <p:blipFill>
          <a:blip r:embed="rId1"/>
          <a:stretch/>
        </p:blipFill>
        <p:spPr>
          <a:xfrm>
            <a:off x="395280" y="538200"/>
            <a:ext cx="828216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Segnaposto contenuto 3" descr="Man_indirizzo_trasporti.jpg"/>
          <p:cNvPicPr/>
          <p:nvPr/>
        </p:nvPicPr>
        <p:blipFill>
          <a:blip r:embed="rId1"/>
          <a:stretch/>
        </p:blipFill>
        <p:spPr>
          <a:xfrm>
            <a:off x="357120" y="404640"/>
            <a:ext cx="8399520" cy="60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Segnaposto contenuto 3" descr="Man_indirizzo_agraria.jpg"/>
          <p:cNvPicPr/>
          <p:nvPr/>
        </p:nvPicPr>
        <p:blipFill>
          <a:blip r:embed="rId1"/>
          <a:stretch/>
        </p:blipFill>
        <p:spPr>
          <a:xfrm>
            <a:off x="361800" y="404640"/>
            <a:ext cx="8386920" cy="599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Segnaposto contenuto 3" descr="Man_indirizzo_chimica.jpg"/>
          <p:cNvPicPr/>
          <p:nvPr/>
        </p:nvPicPr>
        <p:blipFill>
          <a:blip r:embed="rId1"/>
          <a:stretch/>
        </p:blipFill>
        <p:spPr>
          <a:xfrm>
            <a:off x="395280" y="428760"/>
            <a:ext cx="8388360" cy="59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Segnaposto contenuto 3" descr="Man_indirizzo_costruzioni.jpg"/>
          <p:cNvPicPr/>
          <p:nvPr/>
        </p:nvPicPr>
        <p:blipFill>
          <a:blip r:embed="rId1"/>
          <a:stretch/>
        </p:blipFill>
        <p:spPr>
          <a:xfrm>
            <a:off x="423720" y="404640"/>
            <a:ext cx="8332920" cy="595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Segnaposto contenuto 3" descr="Man_indirizzo_elettronica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Segnaposto contenuto 3" descr="Man_indirizzo_grafica.jpg"/>
          <p:cNvPicPr/>
          <p:nvPr/>
        </p:nvPicPr>
        <p:blipFill>
          <a:blip r:embed="rId1"/>
          <a:stretch/>
        </p:blipFill>
        <p:spPr>
          <a:xfrm>
            <a:off x="320760" y="452520"/>
            <a:ext cx="846612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Segnaposto contenuto 3" descr="Man_indirizzo_meccanica.jpg"/>
          <p:cNvPicPr/>
          <p:nvPr/>
        </p:nvPicPr>
        <p:blipFill>
          <a:blip r:embed="rId1"/>
          <a:stretch/>
        </p:blipFill>
        <p:spPr>
          <a:xfrm>
            <a:off x="395280" y="431640"/>
            <a:ext cx="8327880" cy="59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Segnaposto contenuto 3" descr="Man_indirizzo_moda.jpg"/>
          <p:cNvPicPr/>
          <p:nvPr/>
        </p:nvPicPr>
        <p:blipFill>
          <a:blip r:embed="rId1"/>
          <a:stretch/>
        </p:blipFill>
        <p:spPr>
          <a:xfrm>
            <a:off x="357120" y="428760"/>
            <a:ext cx="8391600" cy="59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Segnaposto contenuto 3" descr="Man_indirizzo_informatica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7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38:51Z</dcterms:created>
  <dc:creator>Valued Acer Customer</dc:creator>
  <dc:description/>
  <dc:language>en-US</dc:language>
  <cp:lastModifiedBy>Picoka</cp:lastModifiedBy>
  <dcterms:modified xsi:type="dcterms:W3CDTF">2011-01-12T13:26:42Z</dcterms:modified>
  <cp:revision>8</cp:revision>
  <dc:subject/>
  <dc:title>RIFORMA DEGLI  ISTITUTI TECNICI</dc:title>
</cp:coreProperties>
</file>