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806A-90D3-4CE5-9B80-2B5D2F709D0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222C-3B04-47BD-8786-703F1895C22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DA84-F69E-4BDF-A4C2-01089871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F60B-A6F0-4539-92D4-58C5B8A2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2169-62B5-4535-B077-A3E4DC0B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8F57-1D6D-4826-88BF-3A60872B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1D26-4436-4A9B-B172-EFF06F4F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6E3B-F7B0-477C-A840-F3A39279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121A-24BC-446D-A83B-2FD51348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9DBD-7175-42D0-9D7D-90684009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47C2-5258-4E77-BBF9-D849EB80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3D84-FC17-4A3C-90AA-A2967C7A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6ACD-5263-4008-BE11-51C86DC0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03F6-907A-4992-B7D3-61BD8F7C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0819-1BC6-4F35-B857-B0F0B96DE39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magine 4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magine 1" descr="Pro_industri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1" descr="Pro_manutenzion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39:55Z</dcterms:created>
  <dc:creator>Picoka</dc:creator>
  <dc:description/>
  <dc:language>en-US</dc:language>
  <cp:lastModifiedBy>Picoka</cp:lastModifiedBy>
  <dcterms:modified xsi:type="dcterms:W3CDTF">2011-01-12T13:59:13Z</dcterms:modified>
  <cp:revision>3</cp:revision>
  <dc:subject/>
  <dc:title>Diapositiva 1</dc:title>
</cp:coreProperties>
</file>