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39FD-E31F-4D9D-B3A5-62FDCA4982F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3C3E-0621-4FCA-AF76-CA72C1522CE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8B5D-78AA-496B-9C28-4ABBFD19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B713-DA10-43EB-AE48-4BE12B2E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8F60-69AE-4161-B992-20D31EC7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ED25-7C05-47AF-A84B-3D52BE0F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276-671A-4DA7-B7C6-A7721273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31D5-5ED8-47B7-901E-6D1BAC3D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466F-0EC1-4B75-85CF-97B748C3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AFB9-0A75-48FB-AE4D-71398C1D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6D12-E077-4497-9D77-4BC8A4EB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D950-2811-4EDB-811C-C01103D3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910C-B78F-4726-8C44-E6E2376D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1146-8AA4-45EF-AB21-EC56C1FE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0FFC-9BF2-4793-B151-9B1A0AD1450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magine 4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magine 1" descr="Pro_industri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1" descr="Pro_manutenzion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39:55Z</dcterms:created>
  <dc:creator>Picoka</dc:creator>
  <dc:description/>
  <dc:language>en-US</dc:language>
  <cp:lastModifiedBy>Picoka</cp:lastModifiedBy>
  <dcterms:modified xsi:type="dcterms:W3CDTF">2011-01-12T13:59:13Z</dcterms:modified>
  <cp:revision>3</cp:revision>
  <dc:subject/>
  <dc:title>Diapositiva 1</dc:title>
</cp:coreProperties>
</file>