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B997-EC5A-4CF6-87CA-E1337AA8F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CB00-1E40-406F-91C7-4A472919A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203D-61BA-47D2-8B9F-563631C26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1670-0BBA-44A0-B97F-3AC9E1917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A26CF-B496-4619-8DEC-04DF19238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E9E02-7BFC-46E4-AEB8-E10E8CA92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1167E-ABBC-41FD-ACC1-79117F3F7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C9BD2-F8EA-40B6-81AF-73782DD9E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B82FE-319C-4035-98DC-E67A54FE7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B8825-EB9D-4DEA-8365-69ACD5EA4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A9E63-B111-4790-93E5-0A0F8B71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2B30-64C1-4C27-91C7-64A922D69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AAAF2-275F-452B-B8FD-AD4BD3C0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97BC6-FF62-4B61-B864-87E5057E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8B722-D149-4C69-AE35-BCE2F6EF3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D2E12-2637-4630-A02D-53D3BAC7B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BEDDB-3592-43D4-BC3F-D0AEA37D4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B9AD9-9064-4AB2-AC89-E0B2DE303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89E1A-BBC5-461D-955C-65A786345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C792C-B55E-4E69-95CA-DC927D522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E68BD-DE81-457F-B51F-EBF19799A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2A155-FF6A-487F-A5D8-AE133AF91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9001-6995-4448-826E-25B425626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52534-7C1C-4F43-924F-AD486BCCF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D362E-5EAA-469A-BAB6-265B3EEF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C3774-E336-4FB3-8DC5-BD8EB2DA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9B634-3168-4AF3-9042-37A5471A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6F8CB-750C-4638-828C-0BBFC03DE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D5A36-B811-447F-BA66-211A68B7F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37318-128B-4A0F-8CA6-43F53EE28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DEEF6-9F63-424C-9591-274D1A6BF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94374-AB4E-41BC-9716-241FCC6EE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F634D-372B-4A62-B484-41BA0537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B3AC-19B7-4256-ACE4-FCF911F9C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F7565-7906-42EF-99C5-3DD956A18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7DFFF-A5E6-4AF3-B610-8A201E451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89607-1410-4240-86A7-77A6558E6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ABB16-D6D2-4AE1-A6AD-6AE6055D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A1E9D-13EB-4539-8EFC-1BCCCBA8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9AA68-ABC1-4335-B3B9-E807A7A6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00166-3113-4680-A7E4-571C7FCAA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CE299-CA2A-4E4A-8C47-F028567F2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F6EF8-FB90-4F0C-B980-840EF9547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41622-48D2-4861-A9B8-DC13532EF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965E-9F62-4AA1-95C0-75423E698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FC66E-0772-4793-9418-02A3B9001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61369-C50A-46B2-98E7-06BE26605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F1982-CC06-4E11-A54F-25981BAE4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0AA8D-1E58-4130-BE46-CFC69CD19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4BB0E-122B-4882-92EE-D706A872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3440D-E431-4CEE-9B4A-6E12FBF8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109EF-ECC9-489E-8CDF-AF67E795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7C872-A297-456A-AF32-A5450101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2FFF0-2919-41C9-9121-62E1773F4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2E4F9-C485-46E7-B7B4-8EC146D86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FD46-016A-4BD2-9475-55CB3177A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F1B19-D947-41B4-BE86-EA4A585FC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6717-C884-4491-B244-3230C199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5BB8-55BD-45A0-AFA8-C13C21C7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E9E7-28A9-4966-B7E2-553A938F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ttangolo arrotondato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ettangolo arrotondato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ettangolo arrotondato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8F6FC-470A-4390-BFEA-99955D19E6DE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ettangolo arrotondato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6D3FE-A459-41CA-A3B0-1576B1DBCE1C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ettangolo arrotondato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FE87B-8273-4E60-9EEF-3C09B4958E95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D3238-5D64-41E1-805F-3FA0041F6EEE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rrotonda singolo angolo rettangolo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9E4D6-A04D-4082-A12D-82358913385A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Immagine 3" descr="Manifesto tecnici.jpg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2" name="Segnaposto contenuto 3" descr="Man_indirizzo_amministrazione.jpg"/>
          <p:cNvPicPr/>
          <p:nvPr/>
        </p:nvPicPr>
        <p:blipFill>
          <a:blip r:embed="rId1"/>
          <a:stretch/>
        </p:blipFill>
        <p:spPr>
          <a:xfrm>
            <a:off x="395280" y="404640"/>
            <a:ext cx="8366040" cy="59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4" name="Segnaposto contenuto 3" descr="Man_indirizzo_turistico.jpg"/>
          <p:cNvPicPr/>
          <p:nvPr/>
        </p:nvPicPr>
        <p:blipFill>
          <a:blip r:embed="rId1"/>
          <a:stretch/>
        </p:blipFill>
        <p:spPr>
          <a:xfrm>
            <a:off x="380880" y="404640"/>
            <a:ext cx="8367840" cy="5977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11:38:51Z</dcterms:created>
  <dc:creator>Valued Acer Customer</dc:creator>
  <dc:description/>
  <dc:language>en-US</dc:language>
  <cp:lastModifiedBy>Picoka</cp:lastModifiedBy>
  <dcterms:modified xsi:type="dcterms:W3CDTF">2011-01-12T13:19:29Z</dcterms:modified>
  <cp:revision>16</cp:revision>
  <dc:subject/>
  <dc:title>RIFORMA DEGLI  ISTITUTI TECNICI</dc:title>
</cp:coreProperties>
</file>