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CE67-F72E-4C62-851C-A2E8CDAF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3D98-6EBA-47CC-9847-AA504829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882F-8EDF-47ED-AA49-CF957B38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8244-FA4A-4A37-9CD0-04E125EC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186D-BBF3-4DBD-A16C-8B0755C4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B8D1-768D-4A45-87AF-9DC1D721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17EF-5256-4D40-B146-A4D1AE6D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D8BD-44C4-44CC-97BD-223D4908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E69B-FA31-449B-AECB-24E0D7D7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DE7E-4B8A-4D51-9488-DF375004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9843-AE83-4B05-B911-43F159CD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6C2-AD9D-427C-BCF2-D7BC7B07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324C-798A-4CFF-B643-4208EE86E1B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3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magine 1" descr="Pro_agricoltur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magine 1" descr="Pro_sanitar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magine 1" descr="Pro_enogastronomi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magine 1" descr="Pro_commerci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53:23Z</dcterms:created>
  <dc:creator>Picoka</dc:creator>
  <dc:description/>
  <dc:language>en-US</dc:language>
  <cp:lastModifiedBy>Picoka</cp:lastModifiedBy>
  <dcterms:modified xsi:type="dcterms:W3CDTF">2011-01-12T14:02:17Z</dcterms:modified>
  <cp:revision>2</cp:revision>
  <dc:subject/>
  <dc:title>Diapositiva 1</dc:title>
</cp:coreProperties>
</file>