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8AB7-FE5C-4717-97FE-8959EF674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D975-4C42-493A-8812-478C4223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0402-0940-4ED7-8071-DA884E654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9EFB-89E9-4D53-A766-CB4DDC194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47F3-629E-4923-B7EE-E8C80E0A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8FBB-D1D1-45A0-83F8-1F53963B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372A-759F-4F41-BB71-4CB627C6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15AB-7055-4FCC-914C-175640F0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EACE-7CED-4A43-8F04-6878E700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2456-066B-4A13-824E-1D8988BA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AA05-E711-4C00-A7D3-1C684F8C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2F71-48E2-469F-B3E6-25AB9757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B275-B0BF-4BC6-B3F0-27850539B57D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3" descr="Manifesto Profession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magine 1" descr="Pro_agricoltura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magine 1" descr="Pro_sanitar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magine 1" descr="Pro_enogastronomia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magine 1" descr="Pro_commerci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magine 1" descr="professionali_2.jpg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53:23Z</dcterms:created>
  <dc:creator>Picoka</dc:creator>
  <dc:description/>
  <dc:language>en-US</dc:language>
  <cp:lastModifiedBy>Picoka</cp:lastModifiedBy>
  <dcterms:modified xsi:type="dcterms:W3CDTF">2011-01-12T14:02:17Z</dcterms:modified>
  <cp:revision>2</cp:revision>
  <dc:subject/>
  <dc:title>Diapositiva 1</dc:title>
</cp:coreProperties>
</file>