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B60E-4266-47AD-89C6-D33FFB91A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1EAE-A7FA-412B-A0AC-95962018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0A60-88AB-4308-ACA8-20FDE1776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F42C-2631-4F8A-AF96-0AC411611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492E3-E76D-44E9-A7F5-1146F975E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1165-3B82-4C37-B9A3-9DD3C142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DF12-8E2B-4913-B75F-E1F45D0FA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082F-247B-4BCF-B679-C614662E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EC35-638C-4536-82A2-E525335C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D8F8-6B54-49D1-90E6-FB355C4E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316E-5EDC-4565-8A2F-454256A0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AAF8-7E97-4BA1-AF32-8FF00BE7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910D-FE5C-4AFA-A321-2996B608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1460-F157-49BA-9CFB-51312D20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13BB6-4631-4F5F-844A-409B9573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9AF4-9970-4705-9AB2-4EF9F4E0B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FBE1-A60D-41C6-9204-ED2EDED5B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AEF6F-060B-4203-88FA-FCCDBC7A3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8AD31-3A22-47F2-AE07-F90090E4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1DE3B-51AC-4D29-90D0-58C23D3D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A2059-53E8-49B6-828C-507F5056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AAFEE-EA51-491C-BC47-FCCB5DB1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3AF5-4F2B-4E70-9C6F-A4E84467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F78DE-E7B7-44E2-BBB8-9DDE1371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9BB35-C7A3-4682-9A57-71FA1CD3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8FC49-AC9B-467B-BF91-8C6EA808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8FDFE-D5DD-4313-A49C-DB84204C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7A458-EE96-4522-B352-5DD7EB49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57888-23FE-472F-93E0-ACB349077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666E8-2B63-4A5A-95AE-1E8E5E64B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B72F6-2A23-4ACE-A1C6-63E5E8BC1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5DCFE-2521-4473-924C-A411CBD6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CB714-1DF8-487B-9444-4CC6170E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CA1D-398A-4D1F-B10C-8816B7CD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D8AC3-0C6C-4067-A698-9F226EF8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87E24-D3E8-46DB-B16C-65B252B8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3BD7C-F62E-496B-8842-C1F354D1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36A2E-8848-471E-B249-582C9904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5F4B7-FC73-4143-BC9F-ED59EBA4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FFF76-5541-4951-A91D-35D2D92E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816C4-9E11-4485-89FC-2D090CB8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2E072-BD25-4FCD-861E-3AB8301BC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F1427-3A0A-4B34-B52F-29EA38000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F33DA-43CC-4A97-9669-1AAAB1DB2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5003-8CF7-4813-A3DA-B0C45837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30194-35BB-4B4E-8DC4-9602BBA9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34960-E9CD-4BF7-BEA7-2AF07712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0DF35-90E5-4DF7-BA2A-6AD25477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DF784-E194-43F0-BAA3-D33F9991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E0E94-9128-452D-A876-65E62DE9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D2DAE-5B9A-41D4-A265-D902897A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44104-A11C-4326-AAE2-D9C450E2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5C454-B349-4CDC-BB55-2217B975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0E993-57C4-429A-A115-2AF07ADD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AC41F-725A-4C0A-B51A-C87EDEA45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C144-1E45-4FDD-9659-294FFED0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2FA8C-13A2-45CF-BF74-056787B63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1A79-80B4-4160-A643-D7E11DAB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A2F2-7FA3-45B7-A6F1-F237D9BF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E023-944F-4440-A8EA-208192AA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arrotondato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ettangolo arrotondato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2741-D132-4026-A342-7CE0A148E079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ettangolo arrotondato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2A12-0B9D-48BE-9155-886FA2A86B41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ttangolo arrotondato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C09C-7FF8-4BFD-BC71-1A6C0EDB9B95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07F1-3723-4BA9-92C9-8647A3BF29CF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rotonda singolo angolo rettangolo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1E5C-85EE-46DE-9C95-5A2574C4D8AF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Immagine 3" descr="Manifesto tecnici.jpg"/>
          <p:cNvPicPr/>
          <p:nvPr/>
        </p:nvPicPr>
        <p:blipFill>
          <a:blip r:embed="rId1"/>
          <a:stretch/>
        </p:blipFill>
        <p:spPr>
          <a:xfrm>
            <a:off x="395280" y="538200"/>
            <a:ext cx="828216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Segnaposto contenuto 3" descr="Man_indirizzo_trasporti.jpg"/>
          <p:cNvPicPr/>
          <p:nvPr/>
        </p:nvPicPr>
        <p:blipFill>
          <a:blip r:embed="rId1"/>
          <a:stretch/>
        </p:blipFill>
        <p:spPr>
          <a:xfrm>
            <a:off x="357120" y="404640"/>
            <a:ext cx="8399520" cy="600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Segnaposto contenuto 3" descr="Man_indirizzo_agraria.jpg"/>
          <p:cNvPicPr/>
          <p:nvPr/>
        </p:nvPicPr>
        <p:blipFill>
          <a:blip r:embed="rId1"/>
          <a:stretch/>
        </p:blipFill>
        <p:spPr>
          <a:xfrm>
            <a:off x="361800" y="404640"/>
            <a:ext cx="8386920" cy="599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Segnaposto contenuto 3" descr="Man_indirizzo_chimica.jpg"/>
          <p:cNvPicPr/>
          <p:nvPr/>
        </p:nvPicPr>
        <p:blipFill>
          <a:blip r:embed="rId1"/>
          <a:stretch/>
        </p:blipFill>
        <p:spPr>
          <a:xfrm>
            <a:off x="395280" y="428760"/>
            <a:ext cx="8388360" cy="59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Segnaposto contenuto 3" descr="Man_indirizzo_costruzioni.jpg"/>
          <p:cNvPicPr/>
          <p:nvPr/>
        </p:nvPicPr>
        <p:blipFill>
          <a:blip r:embed="rId1"/>
          <a:stretch/>
        </p:blipFill>
        <p:spPr>
          <a:xfrm>
            <a:off x="423720" y="404640"/>
            <a:ext cx="8332920" cy="595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Segnaposto contenuto 3" descr="Man_indirizzo_elettronica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Segnaposto contenuto 3" descr="Man_indirizzo_grafica.jpg"/>
          <p:cNvPicPr/>
          <p:nvPr/>
        </p:nvPicPr>
        <p:blipFill>
          <a:blip r:embed="rId1"/>
          <a:stretch/>
        </p:blipFill>
        <p:spPr>
          <a:xfrm>
            <a:off x="320760" y="452520"/>
            <a:ext cx="846612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Segnaposto contenuto 3" descr="Man_indirizzo_meccanica.jpg"/>
          <p:cNvPicPr/>
          <p:nvPr/>
        </p:nvPicPr>
        <p:blipFill>
          <a:blip r:embed="rId1"/>
          <a:stretch/>
        </p:blipFill>
        <p:spPr>
          <a:xfrm>
            <a:off x="395280" y="431640"/>
            <a:ext cx="8327880" cy="59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Segnaposto contenuto 3" descr="Man_indirizzo_moda.jpg"/>
          <p:cNvPicPr/>
          <p:nvPr/>
        </p:nvPicPr>
        <p:blipFill>
          <a:blip r:embed="rId1"/>
          <a:stretch/>
        </p:blipFill>
        <p:spPr>
          <a:xfrm>
            <a:off x="357120" y="428760"/>
            <a:ext cx="8391600" cy="59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Segnaposto contenuto 3" descr="Man_indirizzo_informatica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7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1:38:51Z</dcterms:created>
  <dc:creator>Valued Acer Customer</dc:creator>
  <dc:description/>
  <dc:language>en-US</dc:language>
  <cp:lastModifiedBy>Picoka</cp:lastModifiedBy>
  <dcterms:modified xsi:type="dcterms:W3CDTF">2011-01-12T13:26:42Z</dcterms:modified>
  <cp:revision>8</cp:revision>
  <dc:subject/>
  <dc:title>RIFORMA DEGLI  ISTITUTI TECNICI</dc:title>
</cp:coreProperties>
</file>