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C8BE-626B-4917-9CCE-61DC382521A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2689-F67C-423D-904A-55ACE7002D8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688E-073D-40BB-9F08-A6FDA41B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92A7-601A-4A6D-82D8-F9E2FADD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6CDA-6D3D-4580-8F6D-63334F6D4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5318-EDF7-41A3-93D1-C617A5FB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3179-4BE9-4449-9F98-DB94DFA1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6A1C-5425-4BC0-99C6-9927A6B8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FFE5-CCBE-4C0C-981E-4ECE832B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7F10-5BA2-4DBB-8B28-C59FC006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3613-9A4B-4EC8-860E-FEBBE298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377E-34F2-4E6E-BE96-01D52306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2D9B-AF6C-4F1F-9C67-4E6E5936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B9DA-84A1-4DA3-AEDD-B4A7BCB8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41A1-A6C8-44BF-8884-0D8B7CA63940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magine 4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magine 1" descr="Pro_industri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magine 1" descr="Pro_manutenzion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39:55Z</dcterms:created>
  <dc:creator>Picoka</dc:creator>
  <dc:description/>
  <dc:language>en-US</dc:language>
  <cp:lastModifiedBy>Picoka</cp:lastModifiedBy>
  <dcterms:modified xsi:type="dcterms:W3CDTF">2011-01-12T13:59:13Z</dcterms:modified>
  <cp:revision>3</cp:revision>
  <dc:subject/>
  <dc:title>Diapositiva 1</dc:title>
</cp:coreProperties>
</file>