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BFD-FEDB-4785-8342-42C2CBD1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ABB-8B1F-4AC7-B5AF-257DF94B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1C6A-0CDF-435E-9E18-AD97D067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339-3A61-47BD-A27E-99FB4921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E69-BE88-4EF5-8640-39014EBB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EC3-24E4-45EB-AD71-4EF1FA49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F44-3349-4B53-A6CE-CB0672B5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84E9-A8EF-481F-A69D-B12E063F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17F-2057-42AA-A2FF-C5579B29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5390-1190-4F80-B8AE-8CE2248F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B5ED-945F-4BEF-BCDB-CF41676B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8C1C-59B6-4392-A9E0-2A3DABD0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7609-DC53-4D19-A9B7-4C8EB59C8E9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Pro_agricoltur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1" descr="Pro_sanitar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1" descr="Pro_enogastronomi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Pro_commerci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53:23Z</dcterms:created>
  <dc:creator>Picoka</dc:creator>
  <dc:description/>
  <dc:language>en-US</dc:language>
  <cp:lastModifiedBy>Picoka</cp:lastModifiedBy>
  <dcterms:modified xsi:type="dcterms:W3CDTF">2011-01-12T14:02:17Z</dcterms:modified>
  <cp:revision>2</cp:revision>
  <dc:subject/>
  <dc:title>Diapositiva 1</dc:title>
</cp:coreProperties>
</file>