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66BC3-FEBD-4DE3-9DE2-83CF9E453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27B9C-E8FC-4A68-9279-2757B3E1C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B1FB9-C24D-4D85-9C17-10EA3EC8E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119BE-5F2D-4045-AEFB-ED29F59FA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85D9C-04C9-4524-AF64-02C68A82C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E3C09-C127-4C6B-B256-5A730067F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6E58A-3224-4739-9A11-E4379E420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FB305-B47A-4C8A-8A8E-475EA371A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1CDB4-BEE7-4863-BED0-947872E0B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3665C-38B7-4301-B8EE-34A8110A6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DB500-C7AE-4960-ADAF-F935DA2F0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DEB9A-4B93-40AC-B30C-DA84BFF77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2D03C-6089-45E6-BD0A-DFE1B0ABF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5EBEA-95FE-4BD5-9AF9-DE33C6B25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6C7D2-74CB-4B31-A29E-04138F84F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E1771-0D4A-4F2B-8C4C-040E011D6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1CFEF-6E78-4307-9236-6561E8B63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A957BD-71F3-41AF-925F-7E6E0CC36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9CD065-ADDC-47C1-B01A-34A50FB44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3CEDF2-49C0-48AF-9ABE-7E3BD4832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D6D996-7407-4141-9B4C-46BDF894B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0ED7BF-9429-463A-AD74-8A4DE0B7A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B0618-E53B-4138-9BF3-FEB8ECD82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84C44D-AC12-4A0F-9407-30754B178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1E6541-81E5-4BE7-8DE1-E77A1FC1F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45FBEC-0A57-4249-8A7A-49E45BC03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82A134-893B-4C45-BC4B-1D267D3A2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1687D9-BE33-4ACC-877A-7D154CE1E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1DE281-C237-49D2-B9C3-789DD67AF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E949F2-B7BD-4E68-8323-C28150210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670A1E-1EAF-4E7B-AF67-7939EDB18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016D14-8453-4B74-8291-44E931450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4E52E7-A621-41AF-8268-9030CB3C9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82A61-F168-4248-9447-A4E13AFE3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12EA29-4C1F-4171-9450-00521CC71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45A58F-EF44-4556-869B-D68347EB8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E9A41E-B8F8-40B3-8076-668BC7A75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A2D063-1803-489A-9639-A0CCCC055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675144-B45A-4F0B-A9BD-801875068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399F54-2B69-4625-BAEB-743151036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252ED8-DCB6-4BD6-8115-22AE0826F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2A021C-BE1C-4D24-8BCE-F1DC20E2A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0657C8-28B2-4090-ABE6-DE29EA9CE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BE6C49-0B76-42ED-865D-C061A08B3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08809-FD7B-4276-A190-0F5E6637F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C1CB93-6A45-459D-9969-19A21E4BD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7E84B3-2042-4CD9-AAB2-33159E1A6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2EF603-2700-471F-8B6E-ED28A798F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5F9504-38C6-463F-B943-5D65434BF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C65D20-6C3B-4519-9840-65EE43A2C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575639-C694-4A7C-9176-90A112A3D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E6EEC3-E58B-47C5-87A0-01166FF5E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0BEC43-254A-4D71-AAFC-F6B9E234C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5E7252-39A7-413F-B0BA-97EF970E1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C15B1D-001C-4EB0-B5DB-9F632F865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73966-9FF6-4AD2-AA42-A886ADA54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DE1596-3F3B-4F87-8313-2A20319DD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CEA1E-29F0-43AA-8C53-03FA73FA4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021FC-3ED5-4D45-AB5D-0D02E79A6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33A8B-B8CB-434E-BF5E-52559E3C3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ttangolo arrotondato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Rettangolo arrotondato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Rettangolo arrotondato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85200-5367-48BC-9C40-2E4A3D6C36C1}" type="slidenum">
              <a:rPr b="0" lang="it-IT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ttangolo arrotondato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Rettangolo arrotondato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Rettangolo arrotondato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F7172-454B-4C12-86D9-428D1B5B1AA1}" type="slidenum">
              <a:rPr b="0" lang="it-IT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ttangolo arrotondato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Rettangolo arrotondato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Rettangolo arrotondato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01B26-ED43-4ABB-9888-05E6E25D1E71}" type="slidenum">
              <a:rPr b="0" lang="it-IT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ttangolo arrotondato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89307-77F3-40C5-89F3-4337395CDBFC}" type="slidenum">
              <a:rPr b="0" lang="it-IT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ttangolo arrotondato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rrotonda singolo angolo rettangolo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>
              <a:gd name="textAreaLeft" fmla="*/ 0 w 2324160"/>
              <a:gd name="textAreaRight" fmla="*/ 2305800 w 2324160"/>
              <a:gd name="textAreaTop" fmla="*/ 0 h 4343400"/>
              <a:gd name="textAreaBottom" fmla="*/ 4343760 h 4343400"/>
            </a:gdLst>
            <a:ahLst/>
            <a:rect l="textAreaLeft" t="textAreaTop" r="textAreaRight" b="textAreaBottom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lnTo>
                  <a:pt x="2260234" y="0"/>
                </a:lnTo>
                <a:arcTo wR="63866" hR="63866" stAng="-5400000" swAng="5400000"/>
                <a:lnTo>
                  <a:pt x="2324100" y="4343400"/>
                </a:lnTo>
                <a:lnTo>
                  <a:pt x="0" y="434340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EF7E3-3823-4A43-AF94-2257E3FDC963}" type="slidenum">
              <a:rPr b="0" lang="it-IT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Immagine 3" descr="Manifesto tecnici.jpg"/>
          <p:cNvPicPr/>
          <p:nvPr/>
        </p:nvPicPr>
        <p:blipFill>
          <a:blip r:embed="rId1"/>
          <a:stretch/>
        </p:blipFill>
        <p:spPr>
          <a:xfrm>
            <a:off x="395280" y="538200"/>
            <a:ext cx="8282160" cy="591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Segnaposto contenuto 3" descr="Man_indirizzo_trasporti.jpg"/>
          <p:cNvPicPr/>
          <p:nvPr/>
        </p:nvPicPr>
        <p:blipFill>
          <a:blip r:embed="rId1"/>
          <a:stretch/>
        </p:blipFill>
        <p:spPr>
          <a:xfrm>
            <a:off x="357120" y="404640"/>
            <a:ext cx="8399520" cy="600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Segnaposto contenuto 3" descr="Man_indirizzo_agraria.jpg"/>
          <p:cNvPicPr/>
          <p:nvPr/>
        </p:nvPicPr>
        <p:blipFill>
          <a:blip r:embed="rId1"/>
          <a:stretch/>
        </p:blipFill>
        <p:spPr>
          <a:xfrm>
            <a:off x="361800" y="404640"/>
            <a:ext cx="8386920" cy="599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Segnaposto contenuto 3" descr="Man_indirizzo_chimica.jpg"/>
          <p:cNvPicPr/>
          <p:nvPr/>
        </p:nvPicPr>
        <p:blipFill>
          <a:blip r:embed="rId1"/>
          <a:stretch/>
        </p:blipFill>
        <p:spPr>
          <a:xfrm>
            <a:off x="395280" y="428760"/>
            <a:ext cx="8388360" cy="599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Segnaposto contenuto 3" descr="Man_indirizzo_costruzioni.jpg"/>
          <p:cNvPicPr/>
          <p:nvPr/>
        </p:nvPicPr>
        <p:blipFill>
          <a:blip r:embed="rId1"/>
          <a:stretch/>
        </p:blipFill>
        <p:spPr>
          <a:xfrm>
            <a:off x="423720" y="404640"/>
            <a:ext cx="8332920" cy="5951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Segnaposto contenuto 3" descr="Man_indirizzo_elettronica.jpg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5967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Segnaposto contenuto 3" descr="Man_indirizzo_grafica.jpg"/>
          <p:cNvPicPr/>
          <p:nvPr/>
        </p:nvPicPr>
        <p:blipFill>
          <a:blip r:embed="rId1"/>
          <a:stretch/>
        </p:blipFill>
        <p:spPr>
          <a:xfrm>
            <a:off x="320760" y="452520"/>
            <a:ext cx="8466120" cy="604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Segnaposto contenuto 3" descr="Man_indirizzo_meccanica.jpg"/>
          <p:cNvPicPr/>
          <p:nvPr/>
        </p:nvPicPr>
        <p:blipFill>
          <a:blip r:embed="rId1"/>
          <a:stretch/>
        </p:blipFill>
        <p:spPr>
          <a:xfrm>
            <a:off x="395280" y="431640"/>
            <a:ext cx="8327880" cy="595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Segnaposto contenuto 3" descr="Man_indirizzo_moda.jpg"/>
          <p:cNvPicPr/>
          <p:nvPr/>
        </p:nvPicPr>
        <p:blipFill>
          <a:blip r:embed="rId1"/>
          <a:stretch/>
        </p:blipFill>
        <p:spPr>
          <a:xfrm>
            <a:off x="357120" y="428760"/>
            <a:ext cx="8391600" cy="599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Segnaposto contenuto 3" descr="Man_indirizzo_informatica.jpg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5967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5T11:38:51Z</dcterms:created>
  <dc:creator>Valued Acer Customer</dc:creator>
  <dc:description/>
  <dc:language>en-US</dc:language>
  <cp:lastModifiedBy>Picoka</cp:lastModifiedBy>
  <dcterms:modified xsi:type="dcterms:W3CDTF">2011-01-12T13:26:42Z</dcterms:modified>
  <cp:revision>8</cp:revision>
  <dc:subject/>
  <dc:title>RIFORMA DEGLI  ISTITUTI TECNICI</dc:title>
</cp:coreProperties>
</file>