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2C437-E4D3-4D2B-8F70-B56279F0B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0291B-B648-4CB0-9190-B42F89F21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E08AA-93A8-406F-82AB-BA8F7DEDF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27361-5B49-4247-8981-EB7A74DED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4943C-B83C-423D-8223-CE4DB3667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40004-20E9-45B4-86F8-8DDB878D0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48920-9353-4E71-A33B-35EBBC495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A6F86-59E9-4FAF-8E1B-1176B223B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437A7-433F-4B11-8B19-79B9F14E9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9AE78-BD9B-4C63-B0C4-C0AC097C0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B37B8-7D6E-43AA-A284-F1BD11B4D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49955-4C72-49E9-AF58-E91B76B9D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DD6F3-8965-4340-9792-0D32C3130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61348-5A75-477D-A3E7-C78E98F41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466A8-5B71-485C-A5A1-3827C3453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688E3-B5F6-4A71-BBC3-1A67D33F5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62C23-9CCC-4A49-8049-663B0C7C2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E6A846-6EFF-42C8-BED7-E9B1B71FA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7DA470-79B5-486E-A5DC-0C650BAEF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044779-02FC-4B0D-B1F0-2516CB775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3CED98-5CD7-474E-B7C7-E0F1A988C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49C0F9-DB58-4076-B19A-9123D11ED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B786C-F8F2-40D6-8797-DE6C7E6F5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C041F5-BB07-4EDA-AACF-62D621B6E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119C62-8267-4CB9-923C-C242D96A8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A4F530-9652-4CA2-B478-EFDCFD97F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1817C6-8864-4039-87E7-91A400275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80C749-C511-4162-9C45-021AC3368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731A20-54B8-463E-8688-FF010B4E2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CD37E7-470D-49FE-8304-B03D8228E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CD511F-54BB-4E3B-8FBF-182749206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D956FF-2E7C-42F9-BFBC-4706655CD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D1BE73-456F-4117-B7CF-7DBA6EFE3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FF40E-7356-4042-A814-60A1476D7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F8B7C6-528D-465F-BE05-676C68DDC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D6FE01-93A9-4AD2-B2B0-C9963C2DA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A3B087-57D9-4733-A7FB-5CE9CD03C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63F78D-E7C9-4E0A-8F6E-F6E745F0F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517354-2B47-4899-9FD8-81DB436B5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29C2E8-1A67-4025-B53B-7E112FBBE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BEC026-FAD9-41BC-9C43-E1544AC06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DB907F-9D47-4648-878B-92B39AEAC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D56501-EAF7-4D02-AE39-0A0855F11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DD873F-19B0-4681-9C7C-339AF9582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C1EA7-2F77-491C-B23C-390BF9EAE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0C1CDD-358D-4B36-A1A0-A3E73F040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8F02E4-74CA-4424-97EE-FBE7417E4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1E13A1-A300-46B7-B455-B737A6C9A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F7C820-3701-4E4D-BC56-3D3954C98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DB9DA6-D561-4A6A-817C-1B225DB64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27A5BF-F530-435A-9531-F4AC2DA45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6DEBFC-01C4-4991-A8FF-1F6CDBD0B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D38467-6386-45DB-AA2A-BB60EF175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598FFA-3341-4619-B57B-71C36C188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589555-2ED5-456F-8256-A371AD2EF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0ED62-2B92-42A7-9DA0-1F33CB356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45E859-102A-4D97-AADA-B04FFEC82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2B569-F51C-4808-883D-60640B0BF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F36CD-32D3-4C0C-AACC-F6C3BA760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2ADD1-F96C-4A5B-9A29-3402924F5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ttangolo arrotondato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Rettangolo arrotondato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Rettangolo arrotondato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836E3-EC13-49F6-9C3F-5D61A1FBF397}" type="slidenum">
              <a:rPr b="0" lang="it-IT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ttangolo arrotondato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Rettangolo arrotondato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Rettangolo arrotondato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C1FA8-208E-4475-8F5A-FA7FB35BCD7A}" type="slidenum">
              <a:rPr b="0" lang="it-IT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ttangolo arrotondato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Rettangolo arrotondato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Rettangolo arrotondato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5E225-95C0-4E4D-A331-569EDA0F6179}" type="slidenum">
              <a:rPr b="0" lang="it-IT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ttangolo arrotondato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B0DFC-D1DA-4790-A3B7-8E9AEB834E55}" type="slidenum">
              <a:rPr b="0" lang="it-IT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ttangolo arrotondato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rrotonda singolo angolo rettangolo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>
              <a:gd name="textAreaLeft" fmla="*/ 0 w 2324160"/>
              <a:gd name="textAreaRight" fmla="*/ 2305800 w 2324160"/>
              <a:gd name="textAreaTop" fmla="*/ 0 h 4343400"/>
              <a:gd name="textAreaBottom" fmla="*/ 4343760 h 4343400"/>
            </a:gdLst>
            <a:ahLst/>
            <a:rect l="textAreaLeft" t="textAreaTop" r="textAreaRight" b="textAreaBottom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lnTo>
                  <a:pt x="2260234" y="0"/>
                </a:lnTo>
                <a:arcTo wR="63866" hR="63866" stAng="-5400000" swAng="5400000"/>
                <a:lnTo>
                  <a:pt x="2324100" y="4343400"/>
                </a:lnTo>
                <a:lnTo>
                  <a:pt x="0" y="434340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B08D2-9826-4E1D-872F-87569FC765CF}" type="slidenum">
              <a:rPr b="0" lang="it-IT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Immagine 3" descr="Manifesto tecnici.jpg"/>
          <p:cNvPicPr/>
          <p:nvPr/>
        </p:nvPicPr>
        <p:blipFill>
          <a:blip r:embed="rId1"/>
          <a:stretch/>
        </p:blipFill>
        <p:spPr>
          <a:xfrm>
            <a:off x="395280" y="538200"/>
            <a:ext cx="8282160" cy="591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Segnaposto contenuto 3" descr="Man_indirizzo_trasporti.jpg"/>
          <p:cNvPicPr/>
          <p:nvPr/>
        </p:nvPicPr>
        <p:blipFill>
          <a:blip r:embed="rId1"/>
          <a:stretch/>
        </p:blipFill>
        <p:spPr>
          <a:xfrm>
            <a:off x="357120" y="404640"/>
            <a:ext cx="8399520" cy="600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Segnaposto contenuto 3" descr="Man_indirizzo_agraria.jpg"/>
          <p:cNvPicPr/>
          <p:nvPr/>
        </p:nvPicPr>
        <p:blipFill>
          <a:blip r:embed="rId1"/>
          <a:stretch/>
        </p:blipFill>
        <p:spPr>
          <a:xfrm>
            <a:off x="361800" y="404640"/>
            <a:ext cx="8386920" cy="599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Segnaposto contenuto 3" descr="Man_indirizzo_chimica.jpg"/>
          <p:cNvPicPr/>
          <p:nvPr/>
        </p:nvPicPr>
        <p:blipFill>
          <a:blip r:embed="rId1"/>
          <a:stretch/>
        </p:blipFill>
        <p:spPr>
          <a:xfrm>
            <a:off x="395280" y="428760"/>
            <a:ext cx="8388360" cy="599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Segnaposto contenuto 3" descr="Man_indirizzo_costruzioni.jpg"/>
          <p:cNvPicPr/>
          <p:nvPr/>
        </p:nvPicPr>
        <p:blipFill>
          <a:blip r:embed="rId1"/>
          <a:stretch/>
        </p:blipFill>
        <p:spPr>
          <a:xfrm>
            <a:off x="423720" y="404640"/>
            <a:ext cx="8332920" cy="5951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Segnaposto contenuto 3" descr="Man_indirizzo_elettronica.jpg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5967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Segnaposto contenuto 3" descr="Man_indirizzo_grafica.jpg"/>
          <p:cNvPicPr/>
          <p:nvPr/>
        </p:nvPicPr>
        <p:blipFill>
          <a:blip r:embed="rId1"/>
          <a:stretch/>
        </p:blipFill>
        <p:spPr>
          <a:xfrm>
            <a:off x="320760" y="452520"/>
            <a:ext cx="8466120" cy="604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Segnaposto contenuto 3" descr="Man_indirizzo_meccanica.jpg"/>
          <p:cNvPicPr/>
          <p:nvPr/>
        </p:nvPicPr>
        <p:blipFill>
          <a:blip r:embed="rId1"/>
          <a:stretch/>
        </p:blipFill>
        <p:spPr>
          <a:xfrm>
            <a:off x="395280" y="431640"/>
            <a:ext cx="8327880" cy="595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Segnaposto contenuto 3" descr="Man_indirizzo_moda.jpg"/>
          <p:cNvPicPr/>
          <p:nvPr/>
        </p:nvPicPr>
        <p:blipFill>
          <a:blip r:embed="rId1"/>
          <a:stretch/>
        </p:blipFill>
        <p:spPr>
          <a:xfrm>
            <a:off x="357120" y="428760"/>
            <a:ext cx="8391600" cy="599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Segnaposto contenuto 3" descr="Man_indirizzo_informatica.jpg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5967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5T11:38:51Z</dcterms:created>
  <dc:creator>Valued Acer Customer</dc:creator>
  <dc:description/>
  <dc:language>en-US</dc:language>
  <cp:lastModifiedBy>Picoka</cp:lastModifiedBy>
  <dcterms:modified xsi:type="dcterms:W3CDTF">2011-01-12T13:26:42Z</dcterms:modified>
  <cp:revision>8</cp:revision>
  <dc:subject/>
  <dc:title>RIFORMA DEGLI  ISTITUTI TECNICI</dc:title>
</cp:coreProperties>
</file>