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F007-D8A5-42E0-B3AD-CA4ED3F0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B19-90F2-4BE9-B27E-3ABFDA11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7385-A6A2-458F-B7AA-BA83ACF9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0CE0-ACD3-4AC6-9A6A-F703DA60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53DF-B0D5-4D0E-99F4-06C0F229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791A-F295-44D8-BFDB-CAE9D8D6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46DD-AE6B-46D9-BF1E-C7C9FB54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0E62-A764-4FB9-A057-F26B3FE3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1EA-5174-4605-81A7-DF4C1FF0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EDB-56AA-469F-B180-C5551DA4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C31-F3EE-42C9-9322-DC42AE5E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B061-9C12-48F1-80F4-651BF9B0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1168-D0A4-44BF-A95F-E1795542E01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3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magine 1" descr="Pro_agricoltur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magine 1" descr="Pro_sanitar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 1" descr="Pro_enogastronomi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1" descr="Pro_commerci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53:23Z</dcterms:created>
  <dc:creator>Picoka</dc:creator>
  <dc:description/>
  <dc:language>en-US</dc:language>
  <cp:lastModifiedBy>Picoka</cp:lastModifiedBy>
  <dcterms:modified xsi:type="dcterms:W3CDTF">2011-01-12T14:02:17Z</dcterms:modified>
  <cp:revision>2</cp:revision>
  <dc:subject/>
  <dc:title>Diapositiva 1</dc:title>
</cp:coreProperties>
</file>