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36BA-56E6-484B-9A29-F14A9ACE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1187-C6FC-492A-A4AE-E814F684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AECF-CC45-45AD-9E8E-EB0A3074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F8BF-7788-4EF9-A3E3-6F3F1346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9D2F-814B-45A3-8632-448A59EC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96BA-BFEE-40A7-BCDA-B2E90540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6EEC-90A2-4A34-AA65-0A490047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BAA-2542-43FC-82DE-668BC133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AE27-502D-476E-9C15-319729E9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D09A-0624-4A97-864B-E091A2F0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4EF4-EE9A-454E-A2D1-3856098D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FBB-E4A2-4012-B9CA-452F963F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04EE-B9D5-47F8-84A8-8C93CEEFED0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3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magine 1" descr="Pro_agricoltur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magine 1" descr="Pro_sanitar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 1" descr="Pro_enogastronomi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1" descr="Pro_commerci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53:23Z</dcterms:created>
  <dc:creator>Picoka</dc:creator>
  <dc:description/>
  <dc:language>en-US</dc:language>
  <cp:lastModifiedBy>Picoka</cp:lastModifiedBy>
  <dcterms:modified xsi:type="dcterms:W3CDTF">2011-01-12T14:02:17Z</dcterms:modified>
  <cp:revision>2</cp:revision>
  <dc:subject/>
  <dc:title>Diapositiva 1</dc:title>
</cp:coreProperties>
</file>