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EA82-9809-47A1-BC29-9151326D5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679B-8F81-4D7E-B921-7643B6450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DC6A-0979-4F19-825F-34DB9A8D5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734A-C753-4507-91C6-B48C633F0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8AB26-6339-4002-AABC-CB2CC29C0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3C463-5F67-47D7-A2BF-9834AE53F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ACC69-F112-453A-9176-9260DE347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F1A91-0883-4265-9A21-34F83F956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5025D-2CB1-4568-8618-3BB86E918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37574-ACA0-4E8E-A725-0315FCBD7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BE8CC-7125-48FF-A261-E0FDC767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6014-679F-4D1B-B258-0AF9A1151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E5DFB-0248-498C-AF48-2CA405F6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F42A4-31F9-459D-BBF9-4A48FC92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7132C-297C-4D82-8736-2D450B578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1A146-7AE7-4CC2-8A25-4734079EE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AEC70-2826-4AC5-BE5B-EC935C49D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03DB3-426C-4414-9561-4DB8943D3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72954-C737-47B3-87CF-F79877E78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39744-8C54-4A88-A250-4D0BEA062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97ABD-C757-40AA-931E-ED1904E69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60A6F-1EC9-4C0C-9326-37DA5CA6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E447-1C32-411B-A303-50A90F7D5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305EC-7764-47EF-927D-2BD3762A7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09CC1-68DD-453F-A2B3-B9952C01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9F8A9-9D2D-4595-9BF5-3BEAD6C1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0D5D3-669B-4373-B807-EC010B4F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C6849-F84E-406B-A7D2-7BC6A9F29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4F192-ECFE-47FD-A0D2-FC3B90B40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B45E2-FAC0-4A8E-8590-99D29B052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FCE20-20FE-4263-968A-0EE5C0E70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EF69D-E9ED-4B24-A0CD-BDC900791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79079-1331-44D4-81CA-003B2CCF1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B38A-73E5-4F4A-8905-430958EA9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64EDF-42E6-4C26-8B61-3186F5181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547F2-59B3-4DBF-8352-CFACD890A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4E9D5-4385-4BB1-9511-A5691215A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42280-B404-40C8-B197-4BE760EB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AD504-68CC-4804-A027-7BF7BCFF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5BD46-334B-436E-9481-E2A22F1F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D5ACE-A32C-442D-B1FD-A0DA01A0B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D2BA0-B822-41FE-9037-45CB6AAF7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E85B0-FE98-4C83-8FF4-E33AC60EB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88257-5DBB-4282-84F5-F8DAE38BC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F16C-59B2-464D-8191-E18F133D1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88FC7-A5CD-4DEF-B17C-6A8D6AA3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40C42-D449-4C9A-8C5D-1B3C18BE2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8DE84-4FF3-44DC-81C9-6E8641E84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864A0-C123-4A7A-AFE2-8C4520C20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48EB1-1370-44FD-97E3-7DE0030A9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D10A1-F9E4-484C-B9A2-310F6C18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A4D7C-9089-4B50-BD40-43E6DCD7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43EBC-269E-4FC8-8A9A-D9E5F070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03791-8D24-40D2-A218-564C00456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12084-8E17-4B10-8D74-8209C9040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4A7B-D600-4C5E-A97C-6CBFBDD04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A303F-BFB1-40C9-8D9E-A836A0EC7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93D8-5FB3-46DC-83F6-890C0624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410D-BD81-4076-BE24-FAC7B16F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9043-A0D1-421D-B26B-8050DBFF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ttangolo arrotondato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ettangolo arrotondato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ettangolo arrotondato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4439F-55A2-42C4-8FE3-5B0E352CE777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ettangolo arrotondato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14868-643E-47A6-8A02-2EA143F320B7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ettangolo arrotondato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88B4E-AE57-4C5D-9F5B-162D8C5B8BFA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A0C8D-00AD-431C-9D0F-575700F65DC1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rrotonda singolo angolo rettangolo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8DF9-64EA-41C1-A9C7-B2D56C31926F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Immagine 3" descr="Manifesto tecnici.jpg"/>
          <p:cNvPicPr/>
          <p:nvPr/>
        </p:nvPicPr>
        <p:blipFill>
          <a:blip r:embed="rId1"/>
          <a:stretch/>
        </p:blipFill>
        <p:spPr>
          <a:xfrm>
            <a:off x="395280" y="538200"/>
            <a:ext cx="8282160" cy="59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Segnaposto contenuto 3" descr="Man_indirizzo_trasporti.jpg"/>
          <p:cNvPicPr/>
          <p:nvPr/>
        </p:nvPicPr>
        <p:blipFill>
          <a:blip r:embed="rId1"/>
          <a:stretch/>
        </p:blipFill>
        <p:spPr>
          <a:xfrm>
            <a:off x="357120" y="404640"/>
            <a:ext cx="8399520" cy="600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Segnaposto contenuto 3" descr="Man_indirizzo_agraria.jpg"/>
          <p:cNvPicPr/>
          <p:nvPr/>
        </p:nvPicPr>
        <p:blipFill>
          <a:blip r:embed="rId1"/>
          <a:stretch/>
        </p:blipFill>
        <p:spPr>
          <a:xfrm>
            <a:off x="361800" y="404640"/>
            <a:ext cx="8386920" cy="599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Segnaposto contenuto 3" descr="Man_indirizzo_chimica.jpg"/>
          <p:cNvPicPr/>
          <p:nvPr/>
        </p:nvPicPr>
        <p:blipFill>
          <a:blip r:embed="rId1"/>
          <a:stretch/>
        </p:blipFill>
        <p:spPr>
          <a:xfrm>
            <a:off x="395280" y="428760"/>
            <a:ext cx="8388360" cy="599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Segnaposto contenuto 3" descr="Man_indirizzo_costruzioni.jpg"/>
          <p:cNvPicPr/>
          <p:nvPr/>
        </p:nvPicPr>
        <p:blipFill>
          <a:blip r:embed="rId1"/>
          <a:stretch/>
        </p:blipFill>
        <p:spPr>
          <a:xfrm>
            <a:off x="423720" y="404640"/>
            <a:ext cx="8332920" cy="595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Segnaposto contenuto 3" descr="Man_indirizzo_elettronica.jpg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6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Segnaposto contenuto 3" descr="Man_indirizzo_grafica.jpg"/>
          <p:cNvPicPr/>
          <p:nvPr/>
        </p:nvPicPr>
        <p:blipFill>
          <a:blip r:embed="rId1"/>
          <a:stretch/>
        </p:blipFill>
        <p:spPr>
          <a:xfrm>
            <a:off x="320760" y="452520"/>
            <a:ext cx="8466120" cy="60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Segnaposto contenuto 3" descr="Man_indirizzo_meccanica.jpg"/>
          <p:cNvPicPr/>
          <p:nvPr/>
        </p:nvPicPr>
        <p:blipFill>
          <a:blip r:embed="rId1"/>
          <a:stretch/>
        </p:blipFill>
        <p:spPr>
          <a:xfrm>
            <a:off x="395280" y="431640"/>
            <a:ext cx="8327880" cy="595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Segnaposto contenuto 3" descr="Man_indirizzo_moda.jpg"/>
          <p:cNvPicPr/>
          <p:nvPr/>
        </p:nvPicPr>
        <p:blipFill>
          <a:blip r:embed="rId1"/>
          <a:stretch/>
        </p:blipFill>
        <p:spPr>
          <a:xfrm>
            <a:off x="357120" y="428760"/>
            <a:ext cx="8391600" cy="599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Segnaposto contenuto 3" descr="Man_indirizzo_informatica.jpg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67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11:38:51Z</dcterms:created>
  <dc:creator>Valued Acer Customer</dc:creator>
  <dc:description/>
  <dc:language>en-US</dc:language>
  <cp:lastModifiedBy>Picoka</cp:lastModifiedBy>
  <dcterms:modified xsi:type="dcterms:W3CDTF">2011-01-12T13:26:42Z</dcterms:modified>
  <cp:revision>8</cp:revision>
  <dc:subject/>
  <dc:title>RIFORMA DEGLI  ISTITUTI TECNICI</dc:title>
</cp:coreProperties>
</file>