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9220-8184-4C8A-AE3B-849DADF84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EA76-BCE2-432D-A09B-304CDC202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8BD1-7993-40B8-9B9A-BD2C7A8E6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738E-4500-4F2B-8123-C2B0C13BC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B6192-575D-4706-AD25-B77315095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F02F3-7DFA-4B00-96F1-6CDF2B9F7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FF22C-15D3-4ED1-A794-F7FDC5430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7E1B2-19B6-49BB-BC7D-40E7CC875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8B504-CF1D-4B84-996D-AF53534DF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F1891-C291-4741-8B02-071A0DFB3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4EBCF-D55C-4AE5-B620-0A27897D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D4F5-6C6A-455A-88C2-85DF3520E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A2ABD-DDC0-4924-9A6D-23120D7E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96FC0-FE14-47AC-9301-29B99947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A1A6C-C4EA-41C8-89A1-38F48CEC6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0A022-E858-47CA-86A5-1B2B750C9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B8284-FC25-4C60-8C3D-B85FBD36B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0DE2D-01CF-4AF7-8E8B-6B9B1AE96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72285-B2EB-4BF3-A268-416D8BBBB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010E8-2731-42F6-BC39-28B85C58A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90B12-9F3D-4511-BD69-62381BBED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66455-2E82-44CD-BEC4-A8559970E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DCD2-48AC-4A3A-B4AC-34242228B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308BE-38F6-4D30-8BD9-21B162FF3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F4B97-A831-49C9-9020-083FD65D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64D3D-17E2-48A1-996B-7EAA51B0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EB2D0-8B2D-404B-AC4B-6E34B505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280D8-B46A-410A-B55E-AE5C805DF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1B65F-A652-49C8-A2F1-14600E45E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DEAFA-B59D-4EE4-BE9F-AC2746A76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87625-2A39-47C0-B14A-59C9B5335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AAD15-A973-4DBD-A0C6-032F302AC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BC005-3F47-4727-9BAF-7B55F6F16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1A76-2869-41BA-9967-8E920C981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4FA19-CF15-4916-8297-9DE144013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EFCF7-C3AC-45CD-865E-A6B4E51E2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B4833-9BF4-4D09-B19E-3BE3557AA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0D198-3FC2-4CE4-89CA-17A8D4BA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3F041-267D-48CF-BA48-65A0F965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DF2DE-4329-432B-ABD7-D15F7CFA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2E011-D75C-4557-9CA1-C258ED81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0ADC2-CB28-4424-99C7-B162F2397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DE2F9-C37A-427D-8151-2E41A9AE6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EF687-5997-4C04-AC0C-9299CC28E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52E4-2E40-4DC3-8EC9-5A8EF24F5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B16AA-9B07-4990-9DB2-2C8E6AD68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6F8BC-572A-4678-BF0D-4659F47E6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45A51-9111-456B-98FA-E668B4696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E6130-0572-4582-BD49-63218AB26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8F6AA-4A5A-4112-AD03-BA8782B95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B4970-7349-4E91-8C59-97183D93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8E0E6-3EE4-4635-A122-699F6388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96007-F3E4-4061-87BE-B57B65C5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7D29F-B3C1-4424-BFB4-2C9BC898E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D7AFC-0D2E-4CC1-8A6C-B74299E02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4B46-A009-4D4F-AB84-4A744FCF0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383CB-D436-40E4-B51F-245E763CC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EA88-59FF-48C6-8201-2EA537B0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5D9D-79B4-41C0-8F82-4C7983A1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B434-BB6D-4C91-9D3A-FF0DAFA4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ttangolo arrotondato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ettangolo arrotondato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ettangolo arrotondato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7B472-00E3-4094-96A9-AC4469618D08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ettangolo arrotondato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77752-D21E-4F63-ABB2-E45023F74C58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ettangolo arrotondato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19CBF-6D8A-41E1-9DA3-D030C2ECDD9E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74C29-B605-4883-BA72-09C9A86AF398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rrotonda singolo angolo rettangolo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4C79F-19A0-461A-8918-E6BFE63357BB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Immagine 3" descr="Manifesto tecnici.jpg"/>
          <p:cNvPicPr/>
          <p:nvPr/>
        </p:nvPicPr>
        <p:blipFill>
          <a:blip r:embed="rId1"/>
          <a:stretch/>
        </p:blipFill>
        <p:spPr>
          <a:xfrm>
            <a:off x="395280" y="538200"/>
            <a:ext cx="8282160" cy="59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Segnaposto contenuto 3" descr="Man_indirizzo_trasporti.jpg"/>
          <p:cNvPicPr/>
          <p:nvPr/>
        </p:nvPicPr>
        <p:blipFill>
          <a:blip r:embed="rId1"/>
          <a:stretch/>
        </p:blipFill>
        <p:spPr>
          <a:xfrm>
            <a:off x="357120" y="404640"/>
            <a:ext cx="8399520" cy="600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Segnaposto contenuto 3" descr="Man_indirizzo_agraria.jpg"/>
          <p:cNvPicPr/>
          <p:nvPr/>
        </p:nvPicPr>
        <p:blipFill>
          <a:blip r:embed="rId1"/>
          <a:stretch/>
        </p:blipFill>
        <p:spPr>
          <a:xfrm>
            <a:off x="361800" y="404640"/>
            <a:ext cx="8386920" cy="599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Segnaposto contenuto 3" descr="Man_indirizzo_chimica.jpg"/>
          <p:cNvPicPr/>
          <p:nvPr/>
        </p:nvPicPr>
        <p:blipFill>
          <a:blip r:embed="rId1"/>
          <a:stretch/>
        </p:blipFill>
        <p:spPr>
          <a:xfrm>
            <a:off x="395280" y="428760"/>
            <a:ext cx="8388360" cy="599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Segnaposto contenuto 3" descr="Man_indirizzo_costruzioni.jpg"/>
          <p:cNvPicPr/>
          <p:nvPr/>
        </p:nvPicPr>
        <p:blipFill>
          <a:blip r:embed="rId1"/>
          <a:stretch/>
        </p:blipFill>
        <p:spPr>
          <a:xfrm>
            <a:off x="423720" y="404640"/>
            <a:ext cx="8332920" cy="595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Segnaposto contenuto 3" descr="Man_indirizzo_elettronica.jpg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6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Segnaposto contenuto 3" descr="Man_indirizzo_grafica.jpg"/>
          <p:cNvPicPr/>
          <p:nvPr/>
        </p:nvPicPr>
        <p:blipFill>
          <a:blip r:embed="rId1"/>
          <a:stretch/>
        </p:blipFill>
        <p:spPr>
          <a:xfrm>
            <a:off x="320760" y="452520"/>
            <a:ext cx="8466120" cy="60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Segnaposto contenuto 3" descr="Man_indirizzo_meccanica.jpg"/>
          <p:cNvPicPr/>
          <p:nvPr/>
        </p:nvPicPr>
        <p:blipFill>
          <a:blip r:embed="rId1"/>
          <a:stretch/>
        </p:blipFill>
        <p:spPr>
          <a:xfrm>
            <a:off x="395280" y="431640"/>
            <a:ext cx="8327880" cy="595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Segnaposto contenuto 3" descr="Man_indirizzo_moda.jpg"/>
          <p:cNvPicPr/>
          <p:nvPr/>
        </p:nvPicPr>
        <p:blipFill>
          <a:blip r:embed="rId1"/>
          <a:stretch/>
        </p:blipFill>
        <p:spPr>
          <a:xfrm>
            <a:off x="357120" y="428760"/>
            <a:ext cx="8391600" cy="599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Segnaposto contenuto 3" descr="Man_indirizzo_informatica.jpg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67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11:38:51Z</dcterms:created>
  <dc:creator>Valued Acer Customer</dc:creator>
  <dc:description/>
  <dc:language>en-US</dc:language>
  <cp:lastModifiedBy>Picoka</cp:lastModifiedBy>
  <dcterms:modified xsi:type="dcterms:W3CDTF">2011-01-12T13:26:42Z</dcterms:modified>
  <cp:revision>8</cp:revision>
  <dc:subject/>
  <dc:title>RIFORMA DEGLI  ISTITUTI TECNICI</dc:title>
</cp:coreProperties>
</file>