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B8DC-C02B-44BE-9D5C-AC1A24D20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A37C-0D2B-4BD5-9C8E-97E839ABC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C1A9-3EF8-445F-BD95-C53E9F7AF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15A1-214C-40F0-AA77-7AAF985EC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18C7-4B06-4354-833E-27E6134F0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983D-7DCE-4B89-90BD-C3E5E0833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1204-F368-4B52-914D-24F552D1F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9882-6A63-4612-8263-B48A0AE7A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003D-9C00-4104-8F59-7CA2C7430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2F01-E2FC-42D4-9AAE-8569AC6F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5856-DB98-4F96-9A0B-C7D57C8A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75B0-490D-4DB2-8CB8-6E4A8A1E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2CFEC-360C-4C9A-A274-FD73F1C569B3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3" descr="Manifesto Professionali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Immagine 1" descr="Pro_agricoltura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mmagine 1" descr="Pro_sanitari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magine 1" descr="Pro_enogastronomia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Immagine 1" descr="Pro_commerciali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Immagine 1" descr="professionali_2.jpg"/>
          <p:cNvPicPr/>
          <p:nvPr/>
        </p:nvPicPr>
        <p:blipFill>
          <a:blip r:embed="rId1"/>
          <a:stretch/>
        </p:blipFill>
        <p:spPr>
          <a:xfrm>
            <a:off x="217188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10:53:23Z</dcterms:created>
  <dc:creator>Picoka</dc:creator>
  <dc:description/>
  <dc:language>en-US</dc:language>
  <cp:lastModifiedBy>Picoka</cp:lastModifiedBy>
  <dcterms:modified xsi:type="dcterms:W3CDTF">2011-01-12T14:02:17Z</dcterms:modified>
  <cp:revision>2</cp:revision>
  <dc:subject/>
  <dc:title>Diapositiva 1</dc:title>
</cp:coreProperties>
</file>